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38F-4438-493B-A6D9-6D4EC758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055-B736-4BCD-A78D-706139AE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854-2841-4DE2-9745-AAFAE78D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272-E1FD-49C7-B69A-A1B3F70C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54B7-CE47-48AA-95F9-6CEB9FED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10FC-F765-4ADC-8F3A-8AFC6CBD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E5D9-7E3E-44BF-8EB5-7106644C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01CF-1AA4-4573-8902-5E3D444A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6372-B5AF-4A67-9B61-DCD900F1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F72B-75AA-4706-AF08-7865A6E0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016C-162B-47AF-8751-10696870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2BA-2AF3-4621-8A6B-14F9B4EA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FBE0-D2C6-419D-8B9B-F8B7AB47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3E4A-7263-422B-95A7-87AF8D70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E0B2-7634-4594-A5E4-7509D9AF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696C-9277-4908-9030-9D44E155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F0B7-B20A-4CB7-B400-FD81EFB6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5893-B037-45B8-B5A8-98B084FA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CDFDD-6FA3-4D46-BA42-17C50CBA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B17D0-C9C3-4924-960E-2C243188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744A8-F52B-4E0F-923E-480E5832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FD36C-06DE-4074-8480-1EFADE9A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649-5132-49CB-BADA-6E0A42FB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2D8C5-044F-4AFE-949E-436E644B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65D36-55CD-44A4-BA9B-108204E4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444D2-7F94-4A99-9CF6-99A02973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D9DF9-D879-4AFD-BA82-BAA4BEA3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F74E5-E514-41E6-A7FD-6089A01C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04E0D-5747-4549-A6F7-223E1BED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98FC0-5AC4-42B6-ADA8-23009F35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3E44D-3348-4694-A3CA-AF5D3DCE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9E577-B9D9-4E48-AA1C-1F20859B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C39EA-175E-4885-B4A1-DFDACE9F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125-2BF1-493E-88C9-BACB5EFE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5B62-EC02-42E8-AA2F-FA9F77EA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9E592-02FD-428F-AA83-FCF46363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B939D-AA20-483E-A169-9C016D7C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A8478-7511-44EE-874A-E66B4689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33276-E496-44A5-BADF-562AA23E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E994E-D0F4-4B18-AD3B-2C9B3E23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791BC-58D1-43BA-8E93-DB1DA8AA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9E64A-06EB-4026-8EBB-666E4609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B653F-2469-4F5C-8717-C4C95836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8E1DB-D372-4F23-9B3F-5E0A9732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0BD-F8E7-412E-B3C6-CA0E9F7A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7B248-BAF1-4A98-828B-2D5EC705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22867-0423-4B63-8239-596C673B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E1F0C-06B7-4B50-9269-17AC454A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CB388-B18A-4532-8B09-EBD2A77F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3DF65-B826-49C7-B388-AC7B275D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3C387-0BC7-4B20-A1A5-5C3A601D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BF256-8916-4513-A044-693A8B66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2D7C7-7830-4A86-8AD5-FE1C0B7D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0C770-4729-4AD2-B32B-A7D0982F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F6135-CC4C-4F25-B365-8F570138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5D2-1A75-427D-BD3D-1AAD1C78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D257F-D972-4CBA-8268-70E35AF8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22AC9-B81A-45C1-8F89-3C0E9978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01284-5F9F-4976-8C9B-4F0A6D31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BD56A-A2B4-4642-9CBF-DE62194D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9A26D-C1AF-40D6-A2A4-72640D51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84F2B-45D4-4890-8F1A-BDB1DC79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8BAF4-30BA-48FC-9E5F-0624F0BF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24577-FDE1-44DC-957C-57F81094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84177-2AD8-49C9-AC92-E14EC603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0D1F3-35DD-4E2E-8E50-1DEAAAF5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BD6-987A-4332-AD8A-EE74D93B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FBD40-B4FE-4458-8BD8-1095F75A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A9D12-9763-4AE4-8E4F-599058CA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4214C-0E2B-4C08-81F4-4ED4C3AD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18E-2694-41AD-BD22-194275B0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7A20-062B-4F27-AFA1-467AEAEA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56CF-1FF2-48E9-9D82-8AB5C2C3E1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Rectangle 9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865080" cy="587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C2C5-3340-418E-A5BA-5BA8F8F3A4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CE45-008E-4FCF-92DC-93F53C3A4A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BC2D-6A80-4808-9A21-2CC32DE73F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0F33-004F-40B8-A1A7-CCBD264102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06CE-E1A3-4A21-B740-D735062C2D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9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865080" cy="58766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9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865080" cy="58766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854280" y="355680"/>
            <a:ext cx="3269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Unit Learning Objectives</a:t>
            </a:r>
            <a:endParaRPr b="1" lang="en-US" sz="24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876240" y="990720"/>
            <a:ext cx="758196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cribe different features of AutoCAD Civil 3D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are different workspaces in AutoCAD Civil 3D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cribe the concepts of point in AutoCAD Civil 3D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IN" sz="2000" spc="-1" strike="noStrike">
                <a:solidFill>
                  <a:srgbClr val="000000"/>
                </a:solidFill>
                <a:latin typeface="Calibri"/>
              </a:rPr>
              <a:t>Explain various methods of creating points, point styles, and       </a:t>
            </a:r>
            <a:br>
              <a:rPr sz="2000"/>
            </a:br>
            <a:r>
              <a:rPr b="0" i="1" lang="en-IN" sz="2000" spc="-1" strike="noStrike">
                <a:solidFill>
                  <a:srgbClr val="000000"/>
                </a:solidFill>
                <a:latin typeface="Calibri"/>
              </a:rPr>
              <a:t>  point label styles.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000" spc="-1" strike="noStrike">
                <a:solidFill>
                  <a:srgbClr val="000000"/>
                </a:solidFill>
                <a:latin typeface="Calibri"/>
              </a:rPr>
              <a:t>Explain how to edit points, point groups, and import points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457200" y="304920"/>
            <a:ext cx="64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31e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1e5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31e59"/>
                </a:solidFill>
                <a:latin typeface="Calibri"/>
              </a:rPr>
              <a:t>STARTING AutoCAD Civil 3D 2016</a:t>
            </a:r>
            <a:endParaRPr b="1" lang="en-US" sz="24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762120" y="7732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Programs &gt; Autodesk &gt; Autodesk AutoCAD Civil 3D 2016 &gt; Civil 3D 2016 Imperial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1905120" y="5337000"/>
            <a:ext cx="5715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1e1f"/>
                </a:solidFill>
                <a:latin typeface="Calibri"/>
                <a:ea typeface="Calibri"/>
              </a:rPr>
              <a:t>Figure 1-1 </a:t>
            </a:r>
            <a:r>
              <a:rPr b="0" lang="en-US" sz="1600" spc="-1" strike="noStrike">
                <a:solidFill>
                  <a:srgbClr val="221e1f"/>
                </a:solidFill>
                <a:latin typeface="Calibri"/>
                <a:ea typeface="Calibri"/>
              </a:rPr>
              <a:t>Starting AutoCAD Civil 3D 2016 from the taskbar</a:t>
            </a:r>
            <a:endParaRPr b="1" lang="en-US" sz="16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292896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533520" y="304920"/>
            <a:ext cx="66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31e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1e59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31e59"/>
                </a:solidFill>
                <a:latin typeface="Calibri"/>
              </a:rPr>
              <a:t>AUTOCAD CIVIL 3D 2016 SCREEN COMPONENTS</a:t>
            </a:r>
            <a:endParaRPr b="1" lang="en-US" sz="24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2362320" y="5334120"/>
            <a:ext cx="47242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1-2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utoCAD Civil 3D 2015 screen components </a:t>
            </a:r>
            <a:endParaRPr b="1" lang="en-US" sz="16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458200" cy="448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9"/>
          <p:cNvSpPr/>
          <p:nvPr/>
        </p:nvSpPr>
        <p:spPr>
          <a:xfrm>
            <a:off x="838080" y="411120"/>
            <a:ext cx="4572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Drawing Area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838080" y="765000"/>
            <a:ext cx="8305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1e1f"/>
                </a:solidFill>
                <a:latin typeface="Calibri"/>
              </a:rPr>
              <a:t>Covers the major screen area. Here, you can draw objects and use commands.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838080" y="1447920"/>
            <a:ext cx="20574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Ribbon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838080" y="1828800"/>
            <a:ext cx="8305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ized collection of tools grouped into various tabs, based on their functionality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2857680" y="3355920"/>
            <a:ext cx="39621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1-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he ribbon showing the Home tab</a:t>
            </a:r>
            <a:endParaRPr b="1" lang="en-US" sz="16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pic>
        <p:nvPicPr>
          <p:cNvPr id="369" name="Picture 9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6115320" cy="114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2895480" y="5334120"/>
            <a:ext cx="3124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1-4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he Application Menu</a:t>
            </a:r>
            <a:endParaRPr b="1" lang="en-US" sz="16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838080" y="457200"/>
            <a:ext cx="2514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Application Menu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838080" y="838080"/>
            <a:ext cx="7772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pplication Menu is available at the top left of the Civil 3D window.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contains some of the tools that are available in the Standard toolbar.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pic>
        <p:nvPicPr>
          <p:cNvPr id="373" name="Picture 7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590920" cy="372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838080" y="228600"/>
            <a:ext cx="2819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Command Window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838080" y="503280"/>
            <a:ext cx="80773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mand window at the bottom of the drawing area has the command prompt where you can enter the commands.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838080" y="1143000"/>
            <a:ext cx="17528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Status Bar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838080" y="1447920"/>
            <a:ext cx="830592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atus bar is displayed at the bottom of the screen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1e1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221e1f"/>
                </a:solidFill>
                <a:latin typeface="Calibri"/>
              </a:rPr>
              <a:t>It contains some useful information and buttons that will make it easier for you   </a:t>
            </a:r>
            <a:br>
              <a:rPr sz="1800"/>
            </a:br>
            <a:r>
              <a:rPr b="0" lang="en-US" sz="1800" spc="-1" strike="noStrike">
                <a:solidFill>
                  <a:srgbClr val="221e1f"/>
                </a:solidFill>
                <a:latin typeface="Calibri"/>
              </a:rPr>
              <a:t>   to change the status of some AutoCAD function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209680" y="5413320"/>
            <a:ext cx="52578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1-5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status bar displayed in the Civil 3D workspace</a:t>
            </a:r>
            <a:endParaRPr b="1" lang="en-US" sz="16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086600" cy="299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5"/>
          <p:cNvSpPr/>
          <p:nvPr/>
        </p:nvSpPr>
        <p:spPr>
          <a:xfrm>
            <a:off x="838080" y="228600"/>
            <a:ext cx="2743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1e1f"/>
                </a:solidFill>
                <a:latin typeface="Calibri"/>
              </a:rPr>
              <a:t>TOOLSPACE Palette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838080" y="533520"/>
            <a:ext cx="38862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n AutoCAD Civil 3D, you can view the project data and its status at any time in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OOLSPA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palette.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838080" y="5051520"/>
            <a:ext cx="3429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1-6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he options displayed in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specto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ab </a:t>
            </a:r>
            <a:endParaRPr b="1" lang="en-US" sz="16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5562720" y="865080"/>
            <a:ext cx="2438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Shortcut Menu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5257800" y="4191120"/>
            <a:ext cx="29718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1-7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hortcut menu in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specto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ab </a:t>
            </a:r>
            <a:endParaRPr b="1" lang="en-US" sz="16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pic>
        <p:nvPicPr>
          <p:cNvPr id="385" name="Picture 10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2257560" cy="3652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1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2094120" cy="220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838080" y="409680"/>
            <a:ext cx="2286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Layout Tools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1676520" y="1982880"/>
            <a:ext cx="59436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1-8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ignment Layout Tools - &lt;alignment name&gt;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bar</a:t>
            </a:r>
            <a:endParaRPr b="1" lang="en-US" sz="16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00840" cy="69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/>
          <p:cNvSpPr/>
          <p:nvPr/>
        </p:nvSpPr>
        <p:spPr>
          <a:xfrm>
            <a:off x="457200" y="380880"/>
            <a:ext cx="39625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buClr>
                <a:srgbClr val="031e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1e5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31e59"/>
                </a:solidFill>
                <a:latin typeface="Calibri"/>
              </a:rPr>
              <a:t>Civil 3D WORKSPACES </a:t>
            </a:r>
            <a:endParaRPr b="1" lang="en-US" sz="24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2514600" y="2743200"/>
            <a:ext cx="35812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Figure 1-9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fly-out displaying various options for choosing a workspace </a:t>
            </a:r>
            <a:endParaRPr b="1" lang="en-US" sz="16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pic>
        <p:nvPicPr>
          <p:cNvPr id="392" name="Picture 5" descr=""/>
          <p:cNvPicPr/>
          <p:nvPr/>
        </p:nvPicPr>
        <p:blipFill>
          <a:blip r:embed="rId1"/>
          <a:stretch/>
        </p:blipFill>
        <p:spPr>
          <a:xfrm>
            <a:off x="3203640" y="990720"/>
            <a:ext cx="2203560" cy="16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457200" y="380880"/>
            <a:ext cx="6095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buClr>
                <a:srgbClr val="031e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1e5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31e59"/>
                </a:solidFill>
                <a:latin typeface="Calibri"/>
              </a:rPr>
              <a:t>Getting started with AutoCAD Civil 3D</a:t>
            </a:r>
            <a:endParaRPr b="1" lang="en-US" sz="24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838080" y="914400"/>
            <a:ext cx="2819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Drawing Templates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2133720" y="5181480"/>
            <a:ext cx="4343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1-1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Choosing a drawing template from the Drawing Templates node of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specto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ab</a:t>
            </a:r>
            <a:endParaRPr b="1" lang="en-US" sz="16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pic>
        <p:nvPicPr>
          <p:cNvPr id="396" name="Picture 6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2924280" cy="383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"/>
          <p:cNvSpPr/>
          <p:nvPr/>
        </p:nvSpPr>
        <p:spPr>
          <a:xfrm>
            <a:off x="838080" y="407880"/>
            <a:ext cx="23623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Drawing Settings</a:t>
            </a:r>
            <a:r>
              <a:rPr b="1" lang="en-US" sz="1300" spc="-1" strike="noStrike" u="sng">
                <a:solidFill>
                  <a:srgbClr val="002060"/>
                </a:solidFill>
                <a:uFillTx/>
                <a:latin typeface="FrnkGothITC Bk BT"/>
              </a:rPr>
              <a:t> </a:t>
            </a:r>
            <a:endParaRPr b="1" lang="en-US" sz="13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362320" y="3657600"/>
            <a:ext cx="4572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1-11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oosing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dit Drawing Setting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tion from the shortcut menu</a:t>
            </a:r>
            <a:endParaRPr b="1" lang="en-US" sz="16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3009960" cy="202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838080" y="380880"/>
            <a:ext cx="5791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Key Concepts to be covered Unit 1</a:t>
            </a:r>
            <a:endParaRPr b="1" lang="en-US" sz="24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876240" y="990720"/>
            <a:ext cx="7581960" cy="16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IN" sz="2000" spc="-1" strike="noStrike">
                <a:solidFill>
                  <a:srgbClr val="000000"/>
                </a:solidFill>
                <a:latin typeface="Calibri"/>
              </a:rPr>
              <a:t>AutoCAD Civil 3D Interface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000" spc="-1" strike="noStrike">
                <a:solidFill>
                  <a:srgbClr val="000000"/>
                </a:solidFill>
                <a:latin typeface="Calibri"/>
              </a:rPr>
              <a:t>Point, Point Styles and Point Label Styles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000" spc="-1" strike="noStrike">
                <a:solidFill>
                  <a:srgbClr val="000000"/>
                </a:solidFill>
                <a:latin typeface="Calibri"/>
              </a:rPr>
              <a:t>Editing Points, Point Groups and Import Points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2595600" y="5029200"/>
            <a:ext cx="41101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1-12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rawing Setting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</a:t>
            </a:r>
            <a:endParaRPr b="1" lang="en-US" sz="16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88628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479160" y="352440"/>
            <a:ext cx="5333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buClr>
                <a:srgbClr val="031e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1e5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31e59"/>
                </a:solidFill>
                <a:latin typeface="Calibri"/>
              </a:rPr>
              <a:t>Introduction to AutoCAD Civil 3D 2016</a:t>
            </a:r>
            <a:endParaRPr b="1" lang="en-US" sz="24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838080" y="914400"/>
            <a:ext cx="76964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CAD Civil 3D 2016 is a powerful BIM tool.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1e1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221e1f"/>
                </a:solidFill>
                <a:latin typeface="Calibri"/>
              </a:rPr>
              <a:t>Provides model-centric technology at the core that enables multiple user to    </a:t>
            </a:r>
            <a:br>
              <a:rPr sz="1800"/>
            </a:br>
            <a:r>
              <a:rPr b="0" lang="en-US" sz="1800" spc="-1" strike="noStrike">
                <a:solidFill>
                  <a:srgbClr val="221e1f"/>
                </a:solidFill>
                <a:latin typeface="Calibri"/>
              </a:rPr>
              <a:t>  coordinate and work on a single updated model.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blend of several Autodesk solutions and toolsets such as AutoCAD, MAP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3D, Trimble LinkTM , Carlson Connect TM, and Leica Exchange.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for civil engineering projects such as land development, transportation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and watershed management.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3"/>
          <p:cNvSpPr/>
          <p:nvPr/>
        </p:nvSpPr>
        <p:spPr>
          <a:xfrm>
            <a:off x="838080" y="885960"/>
            <a:ext cx="8305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atures a range of design and analysis objects such as points, surfaces,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parcels, alignments and gradings within its three-dimensional dynamic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engineering model.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within a model have a hierarchical interaction mechanism with each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other  which ensures that modifications carried out in one object are reflected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in other connected objects.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the in the project can be viewed i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OLSPA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lette.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CAD Civil 3D also features components such as tables, object labels,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various analysis results that are derived from the model.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474840" y="380880"/>
            <a:ext cx="4869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buClr>
                <a:srgbClr val="031e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1e5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31e59"/>
                </a:solidFill>
                <a:latin typeface="Calibri"/>
              </a:rPr>
              <a:t>Basic Features of AutoCAD Civil 3D</a:t>
            </a:r>
            <a:endParaRPr b="1" lang="en-US" sz="24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3"/>
          <p:cNvSpPr/>
          <p:nvPr/>
        </p:nvSpPr>
        <p:spPr>
          <a:xfrm>
            <a:off x="838080" y="777960"/>
            <a:ext cx="830592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ints are the basic building blocks in AutoCAD Civil 3D.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ints are used to identify the existing ground locations and design elements.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Civil 3D, each point has a unique number and includes information such as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the points northing, easting, level, and description.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oints also have additional properties to control their appearance, such as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point style, point label style, and layer.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838080" y="380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ints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838080" y="31240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int Groups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838080" y="3524400"/>
            <a:ext cx="830592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oint groups allow you to group the COGO points together.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roups are created by using the point objects that have similar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characteristics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"/>
          <p:cNvSpPr/>
          <p:nvPr/>
        </p:nvSpPr>
        <p:spPr>
          <a:xfrm>
            <a:off x="838080" y="428760"/>
            <a:ext cx="1676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cels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838080" y="809640"/>
            <a:ext cx="83059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s any closed boundary that is spatially referenced to a geographical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location such as plot of land  or water body.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838080" y="1560600"/>
            <a:ext cx="69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rfaces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838080" y="1957320"/>
            <a:ext cx="8077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faces are three-dimensional geometric representation of terrain.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faces can be composite or volumetric.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faces are created using -points, point files, DEM data, existing AutoCAD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objects, contours, breaklines, and boundaries.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can perform various surface analyses.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0"/>
          <p:cNvSpPr/>
          <p:nvPr/>
        </p:nvSpPr>
        <p:spPr>
          <a:xfrm>
            <a:off x="762120" y="777960"/>
            <a:ext cx="83055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lignment object represents centerlines, carriageway, verges, highway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boundaries,  or construction baselines.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ignment object can be created from an existing  polyline or by using the Alignment</a:t>
            </a: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ols toolbar.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762120" y="380880"/>
            <a:ext cx="69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ignments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762120" y="2514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radings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762120" y="29718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rading tools and commands are used to grade a surface by applying different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criteria, such as applying slope to a surface or grade to a distance.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812880" y="380880"/>
            <a:ext cx="69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files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812880" y="77796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iles are used to show surface levels along a selected alignment.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762120" y="1311120"/>
            <a:ext cx="69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tions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812880" y="16606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ions or cross-sections, provide a view of the terrain across a linear feature.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773280" y="2225520"/>
            <a:ext cx="69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semblies and Subassemblies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50" name="Text Box 14"/>
          <p:cNvSpPr/>
          <p:nvPr/>
        </p:nvSpPr>
        <p:spPr>
          <a:xfrm>
            <a:off x="812880" y="2606760"/>
            <a:ext cx="7848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ssembly objects contain and manage a collection of subassemblies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that are used to form the primary structure of a corridor model.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ssembly and subassembly constitutes the primary structure of an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AutoCAD Civil 3D corridor model.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"/>
          <p:cNvSpPr/>
          <p:nvPr/>
        </p:nvSpPr>
        <p:spPr>
          <a:xfrm>
            <a:off x="762120" y="380880"/>
            <a:ext cx="69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rridors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762120" y="777960"/>
            <a:ext cx="7696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orridor model is applicable for any linear ground-based feature.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brings together various objects and data including subassemblies,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assemblies, alignments, surfaces, and profiles.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762120" y="1954080"/>
            <a:ext cx="69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ipe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etworks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762120" y="2411280"/>
            <a:ext cx="8076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can use pipe networks to draw 2D and 3D models of utility systems such as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storm sewers, wastewater sewers, and more.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ipe networks are created from design catalogs, and can be edited in plan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views.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762120" y="3978360"/>
            <a:ext cx="29718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perelevation View</a:t>
            </a:r>
            <a:endParaRPr b="1" lang="en-US" sz="20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762120" y="4359240"/>
            <a:ext cx="8305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erelevation is defined as the transverse inclination to the pavement surface. </a:t>
            </a:r>
            <a:endParaRPr b="1" lang="en-US" sz="1800" spc="-1" strike="noStrike" u="sng">
              <a:solidFill>
                <a:srgbClr val="000000"/>
              </a:solidFill>
              <a:uFillTx/>
              <a:latin typeface="FrnkGothITC Bk BT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17:33Z</dcterms:created>
  <dc:creator>CADSoft Technologies</dc:creator>
  <dc:description/>
  <dc:language>en-US</dc:language>
  <cp:lastModifiedBy>Windows User</cp:lastModifiedBy>
  <dcterms:modified xsi:type="dcterms:W3CDTF">2015-09-22T09:34:56Z</dcterms:modified>
  <cp:revision>660</cp:revision>
  <dc:subject/>
  <dc:title>PowerPoint Presentation</dc:title>
</cp:coreProperties>
</file>