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7.jpeg" ContentType="image/jpe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dt" idx="3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ftr" idx="3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 type="sldNum" idx="3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01D0-AB59-4A5C-839A-B7664FCD4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08BA-454C-4E16-9D92-99A16770F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E0C2E-7954-477F-B531-74C52184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8E4E0-1DBC-4B3B-9D9F-1F0075ED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CE150-91D7-442A-B97F-AA6C0000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E59DE-1010-4EB1-91BD-E9E2ADAB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28F14-6913-443E-BBD7-793C14F0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9FEB5-B9F4-4AD4-A103-41970DC6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26735-A081-413D-BEE7-055A5403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6DFD9-242E-4739-A80F-EBFA92EF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5C3F6-6C0A-4EFC-9F96-F284B548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7668E-20FE-4915-9F8E-1F3643C5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81AB1-2AE0-41D9-BAE6-BFE5EA9E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C3F1F-AE74-446F-86F0-B76E73EE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AB9D9-583A-4962-ADAB-487B8DB1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B40E4-68F5-4D5E-9C67-E9633C73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F66FD-4E83-4894-BBE8-5F6F05FE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5C267-44D7-4B30-A2DE-6918743C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BA665-46CF-4AAF-B231-B6E1F04D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8E9C6-D024-4D7B-AC54-DBC8DB7C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5E316-154A-428D-9999-DBA94CA0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F7EC1-F50C-48C4-A70B-6B0EE7CA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50451-D248-4226-A95F-21F6E91C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03DCC-5B36-48B7-A626-C3B8C11E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D0BBE-AA61-472D-93B0-E2E7D1DB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3A835-C952-4270-9F41-BEBEB2CB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E0980-9B8D-416D-A84C-152058EB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AF15C-997D-45E4-8D80-44BA02F6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93C3B-A91F-45A9-BFA1-D011E2C8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808F7-1299-433F-8824-D6B7EF51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C9500-8EE8-43B3-AB57-B18CB1E8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17CDB-94AD-4EAD-A405-401ECFB5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7D80-8138-4952-8919-132057BD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DFEE3-231A-4ACE-8109-9D228A35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4020F-D284-4521-A5FD-E8F4ADD1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CD264-E80E-46BF-B2C7-89172DCB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FC12-825D-4089-9607-7517867E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9A04-8428-44B5-B7DB-C4BFABAF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801A-3209-4F9A-AFDD-B1D66C1B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6E07-C3A3-4A5C-9FC7-B8D681C6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8BC8-C277-4BD8-A190-F964F4C1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2123-E614-4FC5-A909-14B3BA5C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A29-E735-4AD9-9F6F-A5A87D88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2D00-B96A-46EC-A916-70846F32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8A34-BA6F-4A09-BF8D-434BE000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2AB-69C1-4456-BAEB-9AC93298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AC9E-B547-4ABB-9088-680C09E6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7A24-DE43-47A5-B74C-67CF727F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049E-7AD0-4BCE-BFD7-60FDA52C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4458-9E65-4815-9F3F-FD0DA4FF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6E71-F38D-4502-841F-A33FA7AE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F80E-1EE6-44F8-B8A4-CEEF4A07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6832-F32F-4E74-8163-F75819D9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347F-0F4F-4224-85F1-D0A4CDB1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7317-DABA-4EA8-AE7E-68F2C7FC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6DFE-D035-4D2C-9C72-4B985086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31FA-E199-4D4C-B06F-FC4A3845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8000-7507-40C6-AF7A-29C1F508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3B60-2864-49BD-B6C4-AF69C46F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FF604-1614-497B-8B1C-E6079E9C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4225D-86A8-4E32-A0B2-0F73504D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3AA85-F5B1-402D-8944-EA568BD1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22888-38E9-4721-82CC-1BFD0101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496A0-0EB1-484E-95FF-B6DBF036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167A2-0AB2-4932-B295-64F3018C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CDCB5-5BC4-47A5-98AA-39B1F682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8608F-47E4-4423-9B4B-979B836B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DD081-122C-4C1E-A918-6BAF81E9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4DAEA-8547-4104-9730-6EF681CB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56937-5C07-4760-A0B8-06CBE560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0D191-242F-4D79-8FA8-9363502F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C8FE7-3866-4C60-81FC-D9F2AA0F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97E6D-2AFA-4C08-963C-74A2AE42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BAA56-630A-4EBD-9B1C-F6CD7081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D03CD-A323-4912-9F47-0D5EA173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4FB1F-F14A-46F9-B13B-407871CF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709E4-C27F-4C2D-AB89-11553EF5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08C16-3AB1-4367-AD24-CDCC1D69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DD963-1C27-4F0D-86BF-3DE56A97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5F51D-3853-4453-B688-589CDCA3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D8B62-F026-43B1-AB05-E298B9BF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97067-878D-4141-ADF0-74EC9B25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4CCFA-F383-4708-9AD3-5E9409B2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DA2E1-E9B6-4202-B2F8-E786B3AC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4924B-45AB-4924-80EB-B1E38D48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7EACF-330B-437F-9BBD-890F8669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E2B1E-4087-470A-B13D-593BF357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32235-F64D-4E61-B75E-18D39866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8969E-4B64-4F70-BE57-C0A28DDD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0ABA6-8A22-4A76-91AA-23DAAA9D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3B7CC-061E-4C8E-9A34-4AD6BE5E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ED016-9C90-4A55-A401-E7F30B42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4B1D7-F04B-4478-A5D5-C7F5CA9C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AC0F2-16F0-4015-B468-1EEEA861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08E1C-8AF9-408D-AF56-C60C5991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BF953-F18F-4C51-B28F-C7178D2D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98D2F-7C6C-447D-862B-BD70FFD0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BBA7D-E05E-4B95-B46C-9D4A2A70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06AD3-9D4B-4BAC-A1A6-19C8FA99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F2E12-FC82-476D-A311-BD5FE699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FCD47-8502-4938-A385-4B47D212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409A9-9612-4DB9-8199-004CE5D9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736DB-59F1-4D1B-B729-EB5C47E4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02847-C8F2-42FB-93C2-ACC42106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879E5-6302-4422-BEBE-59090266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ED8E0-1A9D-4FDF-95B0-CA04B3FE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F7E25-2EAD-42BE-B3DA-93AD8E3A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52A4D-8A8E-4AE0-8C47-38EDF091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3C528-739A-4AB1-B111-67F8D03B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40D8B-0846-4D82-9026-E6D8DB09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D8F4F-20EC-4A5B-B259-7B245219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49CF5-A318-407A-AA20-9ABC923D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DB598-5977-4992-9F95-E30B5725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82EA2-7A4F-484C-9927-8E618527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5149E-3529-4179-BF6C-5A3BFD39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3B157-E2DC-4DBA-8A71-2CA9B5A3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5771A-B56B-46D7-99DB-C8CE2972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07277-0D36-4413-B0C7-AC184BE6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2F566-9802-4266-BFB7-5EAF381D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6789C-17EE-478A-9ACD-FC648F61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DB985-3F24-4F7F-B1E4-CF1C4ECA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6DFD4-3D7A-4704-A48F-12E8766B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3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682560" cy="579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3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682560" cy="579744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EB1C-D66A-407E-B3F7-A8178793326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3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682560" cy="57974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6025-A2DC-4CFA-9F04-D887C18630A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Rectangle 3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682560" cy="57974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28B7-48C2-4ACD-8EC7-985047C2FE2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Rectangle 3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682560" cy="5797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D597-2E6F-47CB-9D1B-861CD7D9F8E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3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682560" cy="57974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A099-1820-4D5C-9947-CAC73D7C9DE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Rectangle 3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682560" cy="57974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AAB4-4AEA-458D-BAAD-E09B863A45F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Rectangle 3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682560" cy="57974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E9B3-62E8-41A4-94F8-6EFE31C7F30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3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682560" cy="57974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243D-4495-42C4-9B5B-AB84E1D9751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3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682560" cy="57974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210C-3089-4268-8F05-AB37FCA542A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3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682560" cy="57974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9EE3-D37B-4EA7-95AF-DF64E0FFB95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851760" y="34776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"/>
          <p:cNvSpPr/>
          <p:nvPr/>
        </p:nvSpPr>
        <p:spPr>
          <a:xfrm>
            <a:off x="838080" y="804960"/>
            <a:ext cx="6019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c00000"/>
                </a:solidFill>
                <a:latin typeface="Calibri"/>
              </a:rPr>
              <a:t>• 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</a:rPr>
              <a:t>Understand the concept of points in Civil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Calibri"/>
              </a:rPr>
              <a:t>• 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</a:rPr>
              <a:t>Create points using differen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Calibri"/>
              </a:rPr>
              <a:t>• 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</a:rPr>
              <a:t>Create point sty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Calibri"/>
              </a:rPr>
              <a:t>• 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</a:rPr>
              <a:t>Create point label sty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Calibri"/>
              </a:rPr>
              <a:t>• 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</a:rPr>
              <a:t>Understand file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Calibri"/>
              </a:rPr>
              <a:t>• 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</a:rPr>
              <a:t>Edit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rection/Perpend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"/>
          <p:cNvSpPr/>
          <p:nvPr/>
        </p:nvSpPr>
        <p:spPr>
          <a:xfrm>
            <a:off x="838080" y="78120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ome &gt; Create Ground Data &gt; Points drop-dow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Points-Intersections &gt; Direction/Perpend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POINTDIRECTIONP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5"/>
          <p:cNvGrpSpPr/>
          <p:nvPr/>
        </p:nvGrpSpPr>
        <p:grpSpPr>
          <a:xfrm>
            <a:off x="5334120" y="1771560"/>
            <a:ext cx="3809880" cy="3566880"/>
            <a:chOff x="5334120" y="1771560"/>
            <a:chExt cx="3809880" cy="3566880"/>
          </a:xfrm>
        </p:grpSpPr>
        <p:sp>
          <p:nvSpPr>
            <p:cNvPr id="488" name="Rectangle 3"/>
            <p:cNvSpPr/>
            <p:nvPr/>
          </p:nvSpPr>
          <p:spPr>
            <a:xfrm>
              <a:off x="5334120" y="4514400"/>
              <a:ext cx="3809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Figure 2-7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he point created in a specified direction, at a perpendicular distance from the specified 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9" name="Picture 2" descr=""/>
            <p:cNvPicPr/>
            <p:nvPr/>
          </p:nvPicPr>
          <p:blipFill>
            <a:blip r:embed="rId1"/>
            <a:stretch/>
          </p:blipFill>
          <p:spPr>
            <a:xfrm>
              <a:off x="5638680" y="1771560"/>
              <a:ext cx="3133800" cy="2636640"/>
            </a:xfrm>
            <a:prstGeom prst="rect">
              <a:avLst/>
            </a:prstGeom>
            <a:ln w="9360">
              <a:solidFill>
                <a:srgbClr val="4f81bd"/>
              </a:solidFill>
              <a:miter/>
            </a:ln>
          </p:spPr>
        </p:pic>
      </p:grpSp>
      <p:sp>
        <p:nvSpPr>
          <p:cNvPr id="490" name="Rectangle 6"/>
          <p:cNvSpPr/>
          <p:nvPr/>
        </p:nvSpPr>
        <p:spPr>
          <a:xfrm>
            <a:off x="838080" y="1771560"/>
            <a:ext cx="4038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Used to create a point at the  </a:t>
            </a:r>
            <a:br>
              <a:rPr sz="1800"/>
            </a:b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  intersection of the direction line of a   </a:t>
            </a:r>
            <a:br>
              <a:rPr sz="1800"/>
            </a:b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  point and the direction line of a point  </a:t>
            </a:r>
            <a:br>
              <a:rPr sz="1800"/>
            </a:b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  perpendicular to that poi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Specify the start point of the direction  </a:t>
            </a:r>
            <a:br>
              <a:rPr sz="1800"/>
            </a:b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  (bearing or azimut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Specify offs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Specify location of perpendicular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Specify point description and ele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"/>
          <p:cNvSpPr/>
          <p:nvPr/>
        </p:nvSpPr>
        <p:spPr>
          <a:xfrm>
            <a:off x="838080" y="3808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stance/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838080" y="78120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ome &gt; Create Ground Data &gt; Points drop-down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Points-Intersections &gt; Distance/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mand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REATEPOINTDISTANCE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514600" y="1847880"/>
            <a:ext cx="3772080" cy="2514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494" name="Rectangle 4"/>
          <p:cNvSpPr/>
          <p:nvPr/>
        </p:nvSpPr>
        <p:spPr>
          <a:xfrm>
            <a:off x="2514600" y="43624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8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 created at the intersection of the arc object and the radial distance from a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The Alignments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838080" y="843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 &gt; Create Ground Data &gt; Points drop-down &gt; Create Points 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ig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1828800" y="5000760"/>
            <a:ext cx="533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9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flyout displaying tools in the Alignments catego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7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210200" cy="327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19051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ation/Offs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9364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Used to create points at specified distance from the selected station in an alignmen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Invoke this tool from the </a:t>
            </a:r>
            <a:r>
              <a:rPr b="1" lang="en-IN" sz="1800" spc="-1" strike="noStrike">
                <a:solidFill>
                  <a:srgbClr val="000000"/>
                </a:solidFill>
                <a:latin typeface="Calibri"/>
              </a:rPr>
              <a:t>Create Ground Data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pan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Select required alignmen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Select the station at which you want to create a 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Specify the offset, description and elevation of the point when prompt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The point will be created and displayed at the specified offset distance from the  </a:t>
            </a:r>
            <a:br>
              <a:rPr sz="1800"/>
            </a:b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  selected sta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This tool is useful for creating points for Right of Way, lanes, and should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838080" y="79380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 &gt; Create Ground Data &gt; Points drop-down &gt; Create Points – Alignment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 Station/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POINTSTATIONOFF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1"/>
          <p:cNvSpPr/>
          <p:nvPr/>
        </p:nvSpPr>
        <p:spPr>
          <a:xfrm>
            <a:off x="838080" y="363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sure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"/>
          <p:cNvSpPr/>
          <p:nvPr/>
        </p:nvSpPr>
        <p:spPr>
          <a:xfrm>
            <a:off x="838080" y="73332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ibb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Home &gt; Create Ground Data &gt; Points drop-down &gt; Create Points - Alignments &gt;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e Alig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EPOINTMEASUREAL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1760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t Alignment Ge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"/>
          <p:cNvSpPr/>
          <p:nvPr/>
        </p:nvSpPr>
        <p:spPr>
          <a:xfrm>
            <a:off x="838080" y="221760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me &gt; Create Ground Data &gt; Points drop-down 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e Points – Alignments &gt; At Alignment Geome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EPOINTATPTPCSCET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838080" y="31240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ort from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914400" y="342900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ibbon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Home &gt; Create Ground Data &gt; Points drop-down &gt; Create Points-  Alignments &gt;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ort from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EPOINTIMPORTFROM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4876920" y="3809880"/>
            <a:ext cx="3581280" cy="147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9" name="Rectangle 8"/>
          <p:cNvSpPr/>
          <p:nvPr/>
        </p:nvSpPr>
        <p:spPr>
          <a:xfrm>
            <a:off x="4191120" y="53341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1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Enter file format dynamic input promp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"/>
          <p:cNvSpPr/>
          <p:nvPr/>
        </p:nvSpPr>
        <p:spPr>
          <a:xfrm>
            <a:off x="838080" y="380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he Surface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38080" y="781200"/>
            <a:ext cx="80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me &gt; Create Ground Data &gt; Points drop-down &gt; Create Points - Surf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838080" y="1523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andom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838080" y="1905120"/>
            <a:ext cx="373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me &gt; Create Ground Data &gt; Points drop-down &gt; Create Points - Surface &gt; Random Poi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EPOINTRANDOMPOI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9"/>
          <p:cNvSpPr/>
          <p:nvPr/>
        </p:nvSpPr>
        <p:spPr>
          <a:xfrm>
            <a:off x="3886200" y="4267080"/>
            <a:ext cx="525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11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fly-out displaying tools in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urfa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categ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8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179880" cy="243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" descr=""/>
          <p:cNvPicPr/>
          <p:nvPr/>
        </p:nvPicPr>
        <p:blipFill>
          <a:blip r:embed="rId1"/>
          <a:stretch/>
        </p:blipFill>
        <p:spPr>
          <a:xfrm>
            <a:off x="2265480" y="1676520"/>
            <a:ext cx="4537080" cy="2438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17" name="Rectangle 2"/>
          <p:cNvSpPr/>
          <p:nvPr/>
        </p:nvSpPr>
        <p:spPr>
          <a:xfrm>
            <a:off x="2209680" y="419112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12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points added at the surface elev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838080" y="47131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ong Polyline/Cont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838080" y="508176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me &gt; Create Ground Data &gt; Points drop-down &gt; Create Points - Surface &gt; Along Polyline/Cont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EPOINTALONGPOLYCONT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838080" y="423720"/>
            <a:ext cx="29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n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838080" y="804960"/>
            <a:ext cx="792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me &gt; Create Ground Data &gt; Points drop-down&gt; Create Points - Surface &gt; On 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EPOINTON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The Interpolate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838080" y="781200"/>
            <a:ext cx="746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me &gt; Create Ground Data &gt; Points drop-down &gt;  Create Points - Interpo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838080" y="1415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p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838080" y="1797120"/>
            <a:ext cx="3976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me &gt; Create Ground Data &gt; Points drop-down &gt; Create Points – Interpolate  &gt; Interpo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EPOINTINTERPO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838080" y="33098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y Relativ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838080" y="3691080"/>
            <a:ext cx="3962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ibb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Home &gt; Create Ground Data &gt; Points drop-down &gt; Create Points - Interpolate &gt; By Relativ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EPOINTBYREL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0"/>
          <p:cNvSpPr/>
          <p:nvPr/>
        </p:nvSpPr>
        <p:spPr>
          <a:xfrm>
            <a:off x="5029200" y="419112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13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fly-out displaying tools in the Interpolate categ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10" descr=""/>
          <p:cNvPicPr/>
          <p:nvPr/>
        </p:nvPicPr>
        <p:blipFill>
          <a:blip r:embed="rId1"/>
          <a:stretch/>
        </p:blipFill>
        <p:spPr>
          <a:xfrm>
            <a:off x="5475240" y="1600200"/>
            <a:ext cx="3071880" cy="243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"/>
          <p:cNvSpPr/>
          <p:nvPr/>
        </p:nvSpPr>
        <p:spPr>
          <a:xfrm>
            <a:off x="838080" y="43956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2"/>
          <p:cNvSpPr/>
          <p:nvPr/>
        </p:nvSpPr>
        <p:spPr>
          <a:xfrm>
            <a:off x="838080" y="80964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ibbon: Home &gt;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e Ground Data &gt; Points drop-down &gt; Create Points – Interpolate &gt; 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EPTINTERPOLINTER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2238480" y="1800360"/>
            <a:ext cx="4362480" cy="25430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33" name="Rectangle 4"/>
          <p:cNvSpPr/>
          <p:nvPr/>
        </p:nvSpPr>
        <p:spPr>
          <a:xfrm>
            <a:off x="2133720" y="4444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14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interpolated points created at the 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1"/>
          <p:cNvSpPr/>
          <p:nvPr/>
        </p:nvSpPr>
        <p:spPr>
          <a:xfrm>
            <a:off x="838080" y="3254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The Slope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4191120" y="404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igh/Lo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4191120" y="4427640"/>
            <a:ext cx="495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me &gt; Create Ground Data &gt; Points drop-down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&gt; Create Points - Slope &gt; High/Low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EPOINTHIGHLOW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4038480" y="3548160"/>
            <a:ext cx="51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15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flyout displaying tools in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lop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categ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838080" y="7254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 &gt; Create Ground Data &gt; Points drop-down &gt; Create Points - Slo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790560" y="3313080"/>
            <a:ext cx="3171960" cy="2071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0" name="Rectangle 9"/>
          <p:cNvSpPr/>
          <p:nvPr/>
        </p:nvSpPr>
        <p:spPr>
          <a:xfrm>
            <a:off x="457200" y="535932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 2-16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 created at the intersection of slop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0" descr=""/>
          <p:cNvPicPr/>
          <p:nvPr/>
        </p:nvPicPr>
        <p:blipFill>
          <a:blip r:embed="rId2"/>
          <a:stretch/>
        </p:blipFill>
        <p:spPr>
          <a:xfrm>
            <a:off x="5181480" y="990720"/>
            <a:ext cx="3157560" cy="2485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POINT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685800"/>
            <a:ext cx="373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1600" spc="-1" strike="noStrike">
                <a:solidFill>
                  <a:srgbClr val="000000"/>
                </a:solidFill>
                <a:latin typeface="Calibri"/>
              </a:rPr>
              <a:t>Point object represents location in 3D                 </a:t>
            </a:r>
            <a:br>
              <a:rPr sz="1600"/>
            </a:br>
            <a:r>
              <a:rPr b="0" lang="en-IN" sz="1600" spc="-1" strike="noStrike">
                <a:solidFill>
                  <a:srgbClr val="000000"/>
                </a:solidFill>
                <a:latin typeface="Calibri"/>
              </a:rPr>
              <a:t>  spa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1600" spc="-1" strike="noStrike">
                <a:solidFill>
                  <a:srgbClr val="000000"/>
                </a:solidFill>
                <a:latin typeface="Calibri"/>
              </a:rPr>
              <a:t>For example trees, road geometry points,  </a:t>
            </a:r>
            <a:br>
              <a:rPr sz="1600"/>
            </a:br>
            <a:r>
              <a:rPr b="0" lang="en-IN" sz="1600" spc="-1" strike="noStrike">
                <a:solidFill>
                  <a:srgbClr val="000000"/>
                </a:solidFill>
                <a:latin typeface="Calibri"/>
              </a:rPr>
              <a:t>  property corners and edge of pavemen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1600" spc="-1" strike="noStrike">
                <a:solidFill>
                  <a:srgbClr val="000000"/>
                </a:solidFill>
                <a:latin typeface="Calibri"/>
              </a:rPr>
              <a:t>Location defined coordinates X, Y and Z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1600" spc="-1" strike="noStrike">
                <a:solidFill>
                  <a:srgbClr val="000000"/>
                </a:solidFill>
                <a:latin typeface="Calibri"/>
              </a:rPr>
              <a:t>Point object has two major components,      </a:t>
            </a:r>
            <a:br>
              <a:rPr sz="1600"/>
            </a:br>
            <a:r>
              <a:rPr b="0" lang="en-IN" sz="1600" spc="-1" strike="noStrike">
                <a:solidFill>
                  <a:srgbClr val="000000"/>
                </a:solidFill>
                <a:latin typeface="Calibri"/>
              </a:rPr>
              <a:t>  marker and label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1600" spc="-1" strike="noStrike">
                <a:solidFill>
                  <a:srgbClr val="000000"/>
                </a:solidFill>
                <a:latin typeface="Calibri"/>
              </a:rPr>
              <a:t>Marker represents the location of the  </a:t>
            </a:r>
            <a:br>
              <a:rPr sz="1600"/>
            </a:br>
            <a:r>
              <a:rPr b="0" lang="en-IN" sz="1600" spc="-1" strike="noStrike">
                <a:solidFill>
                  <a:srgbClr val="000000"/>
                </a:solidFill>
                <a:latin typeface="Calibri"/>
              </a:rPr>
              <a:t>  point object. Display controlled by the  </a:t>
            </a:r>
            <a:br>
              <a:rPr sz="1600"/>
            </a:br>
            <a:r>
              <a:rPr b="0" lang="en-IN" sz="1600" spc="-1" strike="noStrike">
                <a:solidFill>
                  <a:srgbClr val="000000"/>
                </a:solidFill>
                <a:latin typeface="Calibri"/>
              </a:rPr>
              <a:t>  point styl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1600" spc="-1" strike="noStrike">
                <a:solidFill>
                  <a:srgbClr val="000000"/>
                </a:solidFill>
                <a:latin typeface="Calibri"/>
              </a:rPr>
              <a:t>Point label displays the information  </a:t>
            </a:r>
            <a:br>
              <a:rPr sz="1600"/>
            </a:br>
            <a:r>
              <a:rPr b="0" lang="en-IN" sz="1600" spc="-1" strike="noStrike">
                <a:solidFill>
                  <a:srgbClr val="000000"/>
                </a:solidFill>
                <a:latin typeface="Calibri"/>
              </a:rPr>
              <a:t>  about that point object. controlled by the  </a:t>
            </a:r>
            <a:br>
              <a:rPr sz="1600"/>
            </a:br>
            <a:r>
              <a:rPr b="0" lang="en-IN" sz="1600" spc="-1" strike="noStrike">
                <a:solidFill>
                  <a:srgbClr val="000000"/>
                </a:solidFill>
                <a:latin typeface="Calibri"/>
              </a:rPr>
              <a:t>  point label sty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8" name="Group 6"/>
          <p:cNvGrpSpPr/>
          <p:nvPr/>
        </p:nvGrpSpPr>
        <p:grpSpPr>
          <a:xfrm>
            <a:off x="4724280" y="1752480"/>
            <a:ext cx="4191120" cy="3053520"/>
            <a:chOff x="4724280" y="1752480"/>
            <a:chExt cx="4191120" cy="3053520"/>
          </a:xfrm>
        </p:grpSpPr>
        <p:pic>
          <p:nvPicPr>
            <p:cNvPr id="449" name="Picture 2" descr=""/>
            <p:cNvPicPr/>
            <p:nvPr/>
          </p:nvPicPr>
          <p:blipFill>
            <a:blip r:embed="rId1"/>
            <a:stretch/>
          </p:blipFill>
          <p:spPr>
            <a:xfrm>
              <a:off x="4724280" y="1752480"/>
              <a:ext cx="4191120" cy="2296080"/>
            </a:xfrm>
            <a:prstGeom prst="rect">
              <a:avLst/>
            </a:prstGeom>
            <a:ln w="9360">
              <a:solidFill>
                <a:srgbClr val="4f81bd"/>
              </a:solidFill>
              <a:miter/>
            </a:ln>
          </p:spPr>
        </p:pic>
        <p:sp>
          <p:nvSpPr>
            <p:cNvPr id="450" name="Rectangle 5"/>
            <p:cNvSpPr/>
            <p:nvPr/>
          </p:nvSpPr>
          <p:spPr>
            <a:xfrm>
              <a:off x="5003640" y="4225320"/>
              <a:ext cx="363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Figure 2-1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 point with number, elevation, and descrip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"/>
          <p:cNvSpPr/>
          <p:nvPr/>
        </p:nvSpPr>
        <p:spPr>
          <a:xfrm>
            <a:off x="838080" y="380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lope/Grade-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838080" y="750960"/>
            <a:ext cx="80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me &gt; Create Ground Data &gt; Points drop-down &gt; Create Points - Slope &gt;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lope/Grade –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EPOINTSLOPEGRADED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838080" y="20350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lope/Grade Ele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838080" y="2416320"/>
            <a:ext cx="8077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me &gt; Create Ground Data &gt; Points drop-down &gt; Create Points - Slope &gt; Slope/Grade – Ele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EPOINTSLOPEGRADEEL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4572000" y="533412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17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mport Point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alog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838080" y="380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alibri"/>
              </a:rPr>
              <a:t>Import Po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838080" y="7621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sert &gt; Import &gt; Points from Fil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ORTPOI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6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3452760" cy="497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3"/>
          <p:cNvSpPr/>
          <p:nvPr/>
        </p:nvSpPr>
        <p:spPr>
          <a:xfrm>
            <a:off x="45720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POINT SETTINGS AND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2495520" y="3154320"/>
            <a:ext cx="404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18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oosing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dit Feature Setting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ption from the shortcut me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9"/>
          <p:cNvSpPr/>
          <p:nvPr/>
        </p:nvSpPr>
        <p:spPr>
          <a:xfrm>
            <a:off x="609480" y="1295280"/>
            <a:ext cx="449604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7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3857400" cy="205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2438280" y="525780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19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dit Feature Settings - Point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alog bo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4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515280" cy="473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6095880" y="3683160"/>
            <a:ext cx="28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2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lecting the point style from the drop-down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45720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POINT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8"/>
          <p:cNvSpPr/>
          <p:nvPr/>
        </p:nvSpPr>
        <p:spPr>
          <a:xfrm>
            <a:off x="838080" y="914400"/>
            <a:ext cx="49532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AutoCAD Civil 3D has some in-built point styles  </a:t>
            </a:r>
            <a:br>
              <a:rPr sz="1800"/>
            </a:b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 that control the visibility and appearance of Civil  </a:t>
            </a:r>
            <a:br>
              <a:rPr sz="1800"/>
            </a:b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  3D poi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Control the visibility and display of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Styles help you manage the workability of poi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Point styles can be assigned after the points are  </a:t>
            </a:r>
            <a:br>
              <a:rPr sz="1800"/>
            </a:b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  imported or created</a:t>
            </a:r>
            <a:r>
              <a:rPr b="0" lang="en-IN" sz="1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6" descr=""/>
          <p:cNvPicPr/>
          <p:nvPr/>
        </p:nvPicPr>
        <p:blipFill>
          <a:blip r:embed="rId1"/>
          <a:stretch/>
        </p:blipFill>
        <p:spPr>
          <a:xfrm>
            <a:off x="6019920" y="1371600"/>
            <a:ext cx="2762280" cy="215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"/>
          <p:cNvSpPr/>
          <p:nvPr/>
        </p:nvSpPr>
        <p:spPr>
          <a:xfrm>
            <a:off x="838080" y="38088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Creating Point Sty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4952880" y="228600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21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oosing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ption from the shortcut me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685800" y="1371600"/>
            <a:ext cx="342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6"/>
          <p:cNvSpPr/>
          <p:nvPr/>
        </p:nvSpPr>
        <p:spPr>
          <a:xfrm>
            <a:off x="838080" y="78120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Invoke </a:t>
            </a:r>
            <a:r>
              <a:rPr b="1" lang="en-IN" sz="1800" spc="-1" strike="noStrike">
                <a:solidFill>
                  <a:srgbClr val="000000"/>
                </a:solidFill>
                <a:latin typeface="Calibri"/>
              </a:rPr>
              <a:t>Point Style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dialog box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Choose the </a:t>
            </a:r>
            <a:r>
              <a:rPr b="1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Settings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tab in the  </a:t>
            </a:r>
            <a:br>
              <a:rPr sz="1800"/>
            </a:b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TOOLSPACE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pa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Expand the</a:t>
            </a:r>
            <a:r>
              <a:rPr b="1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 Point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Right-click on </a:t>
            </a:r>
            <a:r>
              <a:rPr b="1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Poin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Choose the </a:t>
            </a:r>
            <a:r>
              <a:rPr b="1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New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 option from the short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1333440" y="5029200"/>
            <a:ext cx="66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2-22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ial view of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forma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tab of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 Point Style - New Point Styl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dialog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"/>
          <p:cNvPicPr/>
          <p:nvPr/>
        </p:nvPicPr>
        <p:blipFill>
          <a:blip r:embed="rId1"/>
          <a:stretch/>
        </p:blipFill>
        <p:spPr>
          <a:xfrm>
            <a:off x="5334120" y="762120"/>
            <a:ext cx="2904840" cy="15048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"/>
          <p:cNvPicPr/>
          <p:nvPr/>
        </p:nvPicPr>
        <p:blipFill>
          <a:blip r:embed="rId2"/>
          <a:stretch/>
        </p:blipFill>
        <p:spPr>
          <a:xfrm>
            <a:off x="1390680" y="3276720"/>
            <a:ext cx="6514920" cy="165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1371600" y="513072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23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rke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tab in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oint Style - New Point Styl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alog bo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515280" cy="4638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1"/>
          <p:cNvSpPr/>
          <p:nvPr/>
        </p:nvSpPr>
        <p:spPr>
          <a:xfrm>
            <a:off x="457200" y="3049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POINT LABEL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"/>
          <p:cNvSpPr/>
          <p:nvPr/>
        </p:nvSpPr>
        <p:spPr>
          <a:xfrm>
            <a:off x="838080" y="8431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Creating a Point Label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5562720" y="487692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24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options in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838080" y="1224000"/>
            <a:ext cx="746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 label styles control the behavior and appearance of point lab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 label styles are created and managed in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etting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b of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oolspac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lett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7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4886280" cy="346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2438280" y="438624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25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mponent Draw Order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alog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838080" y="38088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th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Component Draw Ord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alog box to specify the order in which label components will be displayed in the multi component lab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ponent draw ord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utton to invoke th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Component Draw Ord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alog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5" descr=""/>
          <p:cNvPicPr/>
          <p:nvPr/>
        </p:nvPicPr>
        <p:blipFill>
          <a:blip r:embed="rId1"/>
          <a:stretch/>
        </p:blipFill>
        <p:spPr>
          <a:xfrm>
            <a:off x="3352680" y="2057400"/>
            <a:ext cx="2600280" cy="228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1"/>
          <p:cNvSpPr/>
          <p:nvPr/>
        </p:nvSpPr>
        <p:spPr>
          <a:xfrm>
            <a:off x="838080" y="38088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Adding the Text Component to the La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5"/>
          <p:cNvGrpSpPr/>
          <p:nvPr/>
        </p:nvGrpSpPr>
        <p:grpSpPr>
          <a:xfrm>
            <a:off x="5867280" y="457200"/>
            <a:ext cx="3124440" cy="3498480"/>
            <a:chOff x="5867280" y="457200"/>
            <a:chExt cx="3124440" cy="3498480"/>
          </a:xfrm>
        </p:grpSpPr>
        <p:pic>
          <p:nvPicPr>
            <p:cNvPr id="579" name="Picture 2" descr=""/>
            <p:cNvPicPr/>
            <p:nvPr/>
          </p:nvPicPr>
          <p:blipFill>
            <a:blip r:embed="rId1"/>
            <a:stretch/>
          </p:blipFill>
          <p:spPr>
            <a:xfrm>
              <a:off x="5957640" y="457200"/>
              <a:ext cx="3019680" cy="26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Rectangle 3"/>
            <p:cNvSpPr/>
            <p:nvPr/>
          </p:nvSpPr>
          <p:spPr>
            <a:xfrm>
              <a:off x="5867280" y="3131640"/>
              <a:ext cx="3124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Figure 2-26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hoosing the browse button displayed i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field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ntents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proper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Rectangle 6"/>
          <p:cNvSpPr/>
          <p:nvPr/>
        </p:nvSpPr>
        <p:spPr>
          <a:xfrm>
            <a:off x="838080" y="781200"/>
            <a:ext cx="50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ab from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bel Style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Compo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alog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e Text compon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the browse button in the Value field of the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te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roperty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Component Edito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ialog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box will be display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609480" y="5257800"/>
            <a:ext cx="56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27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xt Component Editor - Content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alog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9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4648320" cy="220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Creating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838080" y="7509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 &gt; Create Ground Data &gt; Points drop-down &gt; Point Cre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PO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5334120" y="497844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PERTI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palette showing different point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9"/>
          <p:cNvSpPr/>
          <p:nvPr/>
        </p:nvSpPr>
        <p:spPr>
          <a:xfrm>
            <a:off x="838080" y="1512720"/>
            <a:ext cx="51055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Civil 3D, you can create points using three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different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ocating points by using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reate Points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mporting points from external poin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verting AutoCAD points into Civil 3D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poi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are divided into six different sub categ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7" descr=""/>
          <p:cNvPicPr/>
          <p:nvPr/>
        </p:nvPicPr>
        <p:blipFill>
          <a:blip r:embed="rId1"/>
          <a:stretch/>
        </p:blipFill>
        <p:spPr>
          <a:xfrm>
            <a:off x="6226200" y="1219320"/>
            <a:ext cx="1949400" cy="367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2"/>
          <p:cNvSpPr/>
          <p:nvPr/>
        </p:nvSpPr>
        <p:spPr>
          <a:xfrm>
            <a:off x="2438280" y="525780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28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dit Label Style Defaults - Point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alog bo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838080" y="37944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view and edit the point label style setting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and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node  and right-click on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bel Styl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ub-node in th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ting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dit Label Style Default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tion from the shortcut menu; 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dit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bel Style Defaults 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alog box will be display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5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5029200" cy="297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1"/>
          <p:cNvSpPr/>
          <p:nvPr/>
        </p:nvSpPr>
        <p:spPr>
          <a:xfrm>
            <a:off x="457200" y="304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EDITING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838080" y="914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ify &gt; Ground Data &gt; Point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T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1295280" y="3014640"/>
            <a:ext cx="723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29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oosing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oint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tool from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round Data pane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f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odify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"/>
          <p:cNvSpPr/>
          <p:nvPr/>
        </p:nvSpPr>
        <p:spPr>
          <a:xfrm>
            <a:off x="838080" y="35812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numbering a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6"/>
          <p:cNvSpPr/>
          <p:nvPr/>
        </p:nvSpPr>
        <p:spPr>
          <a:xfrm>
            <a:off x="838080" y="40021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GO Point &gt; Modify &gt; Re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LECTANDEDITPOINT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8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162560" cy="114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1"/>
          <p:cNvSpPr/>
          <p:nvPr/>
        </p:nvSpPr>
        <p:spPr>
          <a:xfrm>
            <a:off x="838080" y="3618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nging the Elevation of the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838080" y="76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GO Point &gt; Modify &gt; Da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TPOINTDA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838080" y="20019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nging the Point Elevation with respect to a 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"/>
          <p:cNvSpPr/>
          <p:nvPr/>
        </p:nvSpPr>
        <p:spPr>
          <a:xfrm>
            <a:off x="838080" y="24782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GO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int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 Modify &gt; Da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TPOINTSURFACEELEV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1527120" y="4648320"/>
            <a:ext cx="617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3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red colored symbol displayed next to the locked point in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oint Editor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cking/Unlocking Po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838080" y="8380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GO Point &gt; Modify &gt; Lock Points/Unlock Po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K POINTS / UNLOCK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6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265720" cy="290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"/>
          <p:cNvPicPr/>
          <p:nvPr/>
        </p:nvPicPr>
        <p:blipFill>
          <a:blip r:embed="rId1"/>
          <a:stretch/>
        </p:blipFill>
        <p:spPr>
          <a:xfrm>
            <a:off x="1857240" y="1643040"/>
            <a:ext cx="5762880" cy="2952720"/>
          </a:xfrm>
          <a:prstGeom prst="rect">
            <a:avLst/>
          </a:prstGeom>
          <a:ln w="0">
            <a:noFill/>
          </a:ln>
        </p:spPr>
      </p:pic>
      <p:sp>
        <p:nvSpPr>
          <p:cNvPr id="602" name="Rectangle 2"/>
          <p:cNvSpPr/>
          <p:nvPr/>
        </p:nvSpPr>
        <p:spPr>
          <a:xfrm>
            <a:off x="2452680" y="461484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31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eodetic Calculator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alog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790560" y="36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Using the Geodetic Calc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790560" y="76824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GO Point &gt; Analyze &gt; Geodetic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GEODETIC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1909800" y="3929040"/>
            <a:ext cx="533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32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ANORAM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ndow with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oint Editor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4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20000" cy="2343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1"/>
          <p:cNvSpPr/>
          <p:nvPr/>
        </p:nvSpPr>
        <p:spPr>
          <a:xfrm>
            <a:off x="838080" y="3808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Importing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838080" y="78120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1" lang="en-IN" sz="1600" spc="-1" strike="noStrike">
                <a:solidFill>
                  <a:srgbClr val="000000"/>
                </a:solidFill>
                <a:latin typeface="Calibri"/>
              </a:rPr>
              <a:t>Home &gt; Create Ground Data &gt; Points drop-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ORT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914400" y="1492200"/>
            <a:ext cx="6934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 can import points of various file formats into AutoCAD Civil 3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e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oint Creation Tool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tool to import poi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1600" spc="-1" strike="noStrike">
                <a:solidFill>
                  <a:srgbClr val="000000"/>
                </a:solidFill>
                <a:latin typeface="Calibri"/>
              </a:rPr>
              <a:t>Choose the </a:t>
            </a:r>
            <a:r>
              <a:rPr b="1" lang="en-IN" sz="1600" spc="-1" strike="noStrike">
                <a:solidFill>
                  <a:srgbClr val="000000"/>
                </a:solidFill>
                <a:latin typeface="Calibri"/>
              </a:rPr>
              <a:t>Import Points </a:t>
            </a:r>
            <a:r>
              <a:rPr b="0" lang="en-IN" sz="1600" spc="-1" strike="noStrike">
                <a:solidFill>
                  <a:srgbClr val="000000"/>
                </a:solidFill>
                <a:latin typeface="Calibri"/>
              </a:rPr>
              <a:t>button from the </a:t>
            </a:r>
            <a:r>
              <a:rPr b="1" lang="en-IN" sz="1600" spc="-1" strike="noStrike">
                <a:solidFill>
                  <a:srgbClr val="000000"/>
                </a:solidFill>
                <a:latin typeface="Calibri"/>
              </a:rPr>
              <a:t>Create Points </a:t>
            </a:r>
            <a:r>
              <a:rPr b="0" lang="en-IN" sz="1600" spc="-1" strike="noStrike">
                <a:solidFill>
                  <a:srgbClr val="000000"/>
                </a:solidFill>
                <a:latin typeface="Calibri"/>
              </a:rPr>
              <a:t>toolbar; the </a:t>
            </a:r>
            <a:r>
              <a:rPr b="1" lang="en-IN" sz="1600" spc="-1" strike="noStrike">
                <a:solidFill>
                  <a:srgbClr val="000000"/>
                </a:solidFill>
                <a:latin typeface="Calibri"/>
              </a:rPr>
              <a:t>Import  </a:t>
            </a:r>
            <a:br>
              <a:rPr sz="1600"/>
            </a:br>
            <a:r>
              <a:rPr b="1" lang="en-IN" sz="1600" spc="-1" strike="noStrike">
                <a:solidFill>
                  <a:srgbClr val="000000"/>
                </a:solidFill>
                <a:latin typeface="Calibri"/>
              </a:rPr>
              <a:t>   Points</a:t>
            </a:r>
            <a:r>
              <a:rPr b="0" lang="en-IN" sz="1600" spc="-1" strike="noStrike">
                <a:solidFill>
                  <a:srgbClr val="000000"/>
                </a:solidFill>
                <a:latin typeface="Calibri"/>
              </a:rPr>
              <a:t> dialog box is display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 can import the required point file format using this dialog box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1"/>
          <p:cNvSpPr/>
          <p:nvPr/>
        </p:nvSpPr>
        <p:spPr>
          <a:xfrm>
            <a:off x="457200" y="36036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POIN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8"/>
          <p:cNvSpPr/>
          <p:nvPr/>
        </p:nvSpPr>
        <p:spPr>
          <a:xfrm>
            <a:off x="838080" y="822240"/>
            <a:ext cx="8305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 of similar poi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int groups help you control, organize, and manage a point easi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ints with similar properties such as description, elevation, and so on can be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grouped together with a common point group na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ke points, point groups also have their own styles and label sty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 can assign different point styles and point label styles to each point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3"/>
          <p:cNvSpPr/>
          <p:nvPr/>
        </p:nvSpPr>
        <p:spPr>
          <a:xfrm>
            <a:off x="4724280" y="4844880"/>
            <a:ext cx="426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33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oint Group Properties - Point Group - (1)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alog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838080" y="38088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Creating Point Grou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838080" y="83808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 &gt; Create Ground Data &gt; Points drop-down &gt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Point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POINT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838080" y="1847880"/>
            <a:ext cx="396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int groups are created based on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point properties. You can group points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based on their point numbers,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elevation, description, and so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ptions in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int Group  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Properti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alog box are used to create point grou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7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886200" cy="2895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4"/>
          <p:cNvSpPr/>
          <p:nvPr/>
        </p:nvSpPr>
        <p:spPr>
          <a:xfrm>
            <a:off x="1905120" y="39625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2-34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K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i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noram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4" descr=""/>
          <p:cNvPicPr/>
          <p:nvPr/>
        </p:nvPicPr>
        <p:blipFill>
          <a:blip r:embed="rId1"/>
          <a:stretch/>
        </p:blipFill>
        <p:spPr>
          <a:xfrm>
            <a:off x="1552680" y="1219320"/>
            <a:ext cx="6648480" cy="2581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8" descr=""/>
          <p:cNvPicPr/>
          <p:nvPr/>
        </p:nvPicPr>
        <p:blipFill>
          <a:blip r:embed="rId1"/>
          <a:stretch/>
        </p:blipFill>
        <p:spPr>
          <a:xfrm>
            <a:off x="3809880" y="1523880"/>
            <a:ext cx="5029200" cy="346572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1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The Miscellaneous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"/>
          <p:cNvSpPr/>
          <p:nvPr/>
        </p:nvSpPr>
        <p:spPr>
          <a:xfrm>
            <a:off x="838080" y="78120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 &gt; Create Ground Data &gt; Points drop-dow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Points-Miscellane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PO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838080" y="177156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tools in this category are used to create points by specifying the point location in the drawing manu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5"/>
          <p:cNvSpPr/>
          <p:nvPr/>
        </p:nvSpPr>
        <p:spPr>
          <a:xfrm>
            <a:off x="3657600" y="510552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3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iscellaneous point creation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838080" y="1201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is tutorial, you will create points using various tools that are available in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e Point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1676520" y="5105520"/>
            <a:ext cx="647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35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s created by using various tools in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reate Point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olb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"/>
          <p:cNvSpPr/>
          <p:nvPr/>
        </p:nvSpPr>
        <p:spPr>
          <a:xfrm>
            <a:off x="457200" y="304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TUTO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838080" y="76212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utorial 1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reating Points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8" descr="Figure 2-58.jpg"/>
          <p:cNvPicPr/>
          <p:nvPr/>
        </p:nvPicPr>
        <p:blipFill>
          <a:blip r:embed="rId1"/>
          <a:stretch/>
        </p:blipFill>
        <p:spPr>
          <a:xfrm>
            <a:off x="2666880" y="1905120"/>
            <a:ext cx="441972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2"/>
          <p:cNvSpPr/>
          <p:nvPr/>
        </p:nvSpPr>
        <p:spPr>
          <a:xfrm>
            <a:off x="838080" y="1271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is tutorial, you will import points into a drawing, create a point group, create a new point style, and a point label style for points, as shown in Figure 5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tretch/>
        </p:blipFill>
        <p:spPr>
          <a:xfrm>
            <a:off x="2271600" y="2152800"/>
            <a:ext cx="4753080" cy="2647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626" name="Rectangle 4"/>
          <p:cNvSpPr/>
          <p:nvPr/>
        </p:nvSpPr>
        <p:spPr>
          <a:xfrm>
            <a:off x="1676520" y="4800600"/>
            <a:ext cx="612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36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s created with a new point style and point label sty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457200" y="3380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TUTO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838080" y="795240"/>
            <a:ext cx="54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utorial 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orting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990720" y="85716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is tutorial, you will verify the drawing settings, create points manually using the coordinate data in latitude and longitude format, and create points using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lope/Grade - Elevati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ol, refer to Figure 2-37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1600200" y="5091120"/>
            <a:ext cx="617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2-3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s created using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pe/Grade - Elev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457200" y="304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TUTO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990720" y="76212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utorial 3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reating Points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2505240" y="2152800"/>
            <a:ext cx="4200480" cy="290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6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7"/>
          <p:cNvSpPr/>
          <p:nvPr/>
        </p:nvSpPr>
        <p:spPr>
          <a:xfrm>
            <a:off x="838080" y="7621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 &gt; Create Ground Data &gt; Points drop-dow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- Miscellaneous &gt; 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POINTMAN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8"/>
          <p:cNvSpPr/>
          <p:nvPr/>
        </p:nvSpPr>
        <p:spPr>
          <a:xfrm>
            <a:off x="838080" y="2048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detic 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9"/>
          <p:cNvSpPr/>
          <p:nvPr/>
        </p:nvSpPr>
        <p:spPr>
          <a:xfrm>
            <a:off x="838080" y="235260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 &gt; Create Ground Data &gt; Points drop-dow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- Miscellaneous &gt; Geodetic 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PTGEODETIC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0"/>
          <p:cNvSpPr/>
          <p:nvPr/>
        </p:nvSpPr>
        <p:spPr>
          <a:xfrm>
            <a:off x="838080" y="36482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uto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1"/>
          <p:cNvSpPr/>
          <p:nvPr/>
        </p:nvSpPr>
        <p:spPr>
          <a:xfrm>
            <a:off x="838080" y="40291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 &gt; Create Ground Data &gt; Points drop-dow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- Miscellaneous &gt; Auto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POINTAUTOMA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1"/>
          <p:cNvSpPr/>
          <p:nvPr/>
        </p:nvSpPr>
        <p:spPr>
          <a:xfrm>
            <a:off x="838080" y="206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lyline Vertices - Auto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2"/>
          <p:cNvSpPr/>
          <p:nvPr/>
        </p:nvSpPr>
        <p:spPr>
          <a:xfrm>
            <a:off x="838080" y="24289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 &gt; Create Ground Data &gt; Points drop-dow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- Miscellaneous &gt; Polyline Vertices – Auto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PTPLYINCTRVERTAUTO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3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ylin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ertice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4"/>
          <p:cNvSpPr/>
          <p:nvPr/>
        </p:nvSpPr>
        <p:spPr>
          <a:xfrm>
            <a:off x="838080" y="76212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 &gt; Create Ground Data &gt; Points drop-dow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- Miscellaneous &gt; Polyline Vertices – 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PTPLYLINECTRVERT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3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Intersections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838080" y="781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 &gt; Create Ground Data &gt; Points drop-dow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Points-Interse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438280" y="457200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4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tools in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tersection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categ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6" descr=""/>
          <p:cNvPicPr/>
          <p:nvPr/>
        </p:nvPicPr>
        <p:blipFill>
          <a:blip r:embed="rId1"/>
          <a:stretch/>
        </p:blipFill>
        <p:spPr>
          <a:xfrm>
            <a:off x="2909880" y="1676520"/>
            <a:ext cx="3171960" cy="280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"/>
          <p:cNvSpPr/>
          <p:nvPr/>
        </p:nvSpPr>
        <p:spPr>
          <a:xfrm>
            <a:off x="838080" y="380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rection/Dir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838080" y="75096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 &gt; Create Ground Data &gt; Points drop-down &gt; Create Points - Intersec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 Direction/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POINTDIRECTION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2438280" y="1913040"/>
            <a:ext cx="4343400" cy="2692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478" name="Rectangle 5"/>
          <p:cNvSpPr/>
          <p:nvPr/>
        </p:nvSpPr>
        <p:spPr>
          <a:xfrm>
            <a:off x="2438280" y="465624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-5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point added at the specified offset distance from the intersection of direction lines of two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"/>
          <p:cNvSpPr/>
          <p:nvPr/>
        </p:nvSpPr>
        <p:spPr>
          <a:xfrm>
            <a:off x="838080" y="3808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stance/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"/>
          <p:cNvSpPr/>
          <p:nvPr/>
        </p:nvSpPr>
        <p:spPr>
          <a:xfrm>
            <a:off x="838080" y="78120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 &gt; Create Ground Data &gt; Points drop-dow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Points- Intersections &gt; Distance/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POINTDISTANCED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7"/>
          <p:cNvGrpSpPr/>
          <p:nvPr/>
        </p:nvGrpSpPr>
        <p:grpSpPr>
          <a:xfrm>
            <a:off x="1828800" y="2195640"/>
            <a:ext cx="5105520" cy="3287160"/>
            <a:chOff x="1828800" y="2195640"/>
            <a:chExt cx="5105520" cy="3287160"/>
          </a:xfrm>
        </p:grpSpPr>
        <p:pic>
          <p:nvPicPr>
            <p:cNvPr id="482" name="Picture 2" descr=""/>
            <p:cNvPicPr/>
            <p:nvPr/>
          </p:nvPicPr>
          <p:blipFill>
            <a:blip r:embed="rId1"/>
            <a:stretch/>
          </p:blipFill>
          <p:spPr>
            <a:xfrm>
              <a:off x="2519280" y="2195640"/>
              <a:ext cx="3648240" cy="2619360"/>
            </a:xfrm>
            <a:prstGeom prst="rect">
              <a:avLst/>
            </a:prstGeom>
            <a:ln w="9360">
              <a:solidFill>
                <a:srgbClr val="4f81bd"/>
              </a:solidFill>
              <a:miter/>
            </a:ln>
          </p:spPr>
        </p:pic>
        <p:sp>
          <p:nvSpPr>
            <p:cNvPr id="483" name="Rectangle 4"/>
            <p:cNvSpPr/>
            <p:nvPr/>
          </p:nvSpPr>
          <p:spPr>
            <a:xfrm>
              <a:off x="1828800" y="4840200"/>
              <a:ext cx="510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igure 2-6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ints created at the intersection of arcs of specified radial distances defined from two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Rectangle 5"/>
          <p:cNvSpPr/>
          <p:nvPr/>
        </p:nvSpPr>
        <p:spPr>
          <a:xfrm>
            <a:off x="685800" y="1676520"/>
            <a:ext cx="4191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6:36:26Z</dcterms:created>
  <dc:creator>CADCIM2010</dc:creator>
  <dc:description/>
  <dc:language>en-US</dc:language>
  <cp:lastModifiedBy>Windows User</cp:lastModifiedBy>
  <dcterms:modified xsi:type="dcterms:W3CDTF">2015-09-22T10:00:30Z</dcterms:modified>
  <cp:revision>351</cp:revision>
  <dc:subject/>
  <dc:title>Slide 1</dc:title>
</cp:coreProperties>
</file>