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CBE18-2FC0-44F8-9A1B-3662A9D0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E6D354-E618-4C4C-AA6B-4B9F541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2C282-498E-4D2A-B985-C2D047F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1D8AF-B2A6-472C-A263-F43A43C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7152D-66D5-4D86-BF7E-E39EDD7C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677D4-D5FA-4964-8C7F-4187B10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70E3E-BBA3-44DD-AD03-CE4D1F83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CB380-E18D-4FF8-AD01-826C529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4E593-8796-4676-8CE2-2841566C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5E448-5D32-48F1-A8EC-E063C791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DAC49-5F7F-4DB1-9FAC-98E4771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53E05-55B4-42E0-A79E-DF3C35A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61A4D-DAB7-42A0-BA70-7B38952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229BD-E191-4A62-9EA0-ABED376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01CA3-54FC-4305-A969-E4E4495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A95A2-A0F8-432F-A9BB-45A496B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470E7-3CDE-4845-9B28-C2A5983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06DB61-EC26-4307-9149-8E604F5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A9364-B397-48E8-9284-3635E3CD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C3F8D-32B8-43A8-B9FE-8288CFC7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D17D0-9C2A-4775-8725-24EA80C9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B7CC1-EC29-48CF-9207-56C03F6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64A77-BEA3-41E2-BB66-35300AE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AB93A-7DD9-441D-A17B-F06CA35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CF77F-6889-4218-B001-C1294F38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E6E11-E408-4355-B9A8-468EE4D4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B11DFE-6249-42A2-ACEF-FFAD1D4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5DEAA-104A-4759-BB5E-EE5CB963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139105-7867-4E21-BB86-17C4CEF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7EA47-ECF2-4AB6-9C34-CA66EC4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FF8-B6FC-4DAF-879F-21647174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9F51AC-B973-4037-A09A-8472D37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6C6C7-D444-4EDE-A87A-DD596D4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F91FD-4ED1-4FEB-B31B-07C2DFA0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6A7C2F-9F82-489C-9A51-EBCD4570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C6B34-840F-486F-A9B5-C1012814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ECBC1D-3DE4-4273-915B-FC14A4A6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51111B-3B57-4EBA-AA76-3BDE2DB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438CC5-0A40-4703-A41F-F0078D4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03CC89-D29A-41DE-845C-B149BD9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7015E5-46EC-413F-977F-F7BA4A66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FFA-7B65-4319-8F91-6DFD91B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30A009-1BA8-4E19-8C66-B8CFB57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141DAF-C502-41CE-8C33-094AEBD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49EE1-C48C-40AB-BE42-1A7F69C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B94FA3-0D31-4395-B4A6-C4F192F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64D83-7305-43D7-9F3B-07B5A30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F7E-E402-4340-9BD6-CF6847C0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2A6-77A1-4F82-9EB9-7A7AC23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7DC-6CC7-4EB5-8E59-EF4B16B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7C7-EB80-4A9F-9BEA-2EA8E85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0DD-8DFF-46D7-B944-88E904F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A80-F32B-473D-A932-83F4672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142-E35C-4AC5-B0B9-82209AD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41C-1195-4C75-A27B-FAD3BE2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E59-22A2-4C93-815D-070A019E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DC1-59A0-41D9-A0DA-CDAD55E6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B4D5-FB1B-42F6-BC8A-855983D2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5932-3563-43A6-9B9B-60E0205B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101-B89C-4087-9F9D-7353BD0F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0BC-781A-46CA-B531-E0682F6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0D1-8E2A-4AD8-AC15-1472191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AE9-9712-4C63-A9E6-704E60F4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168A-2136-4810-A3B9-2347621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B89-5253-4782-81B5-F656507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48B-377D-4465-97EC-9E1A465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E36-A1E7-4ECC-9CC1-B3F3DD21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9915-9550-4E1F-9066-37913C0F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F25-F058-42CF-ABB2-3EE8767E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9198-6F21-4F20-AAA2-4DB03E61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BBA7-C0DC-4DE3-9C64-62A257E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3DF1-FB5D-4C52-B3A6-A4CCBA2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BCCB-3AEE-4793-89AE-5B30F520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BFCC-8330-476F-A4CC-7D3118D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D580-EDD0-4C51-B515-D22A5CB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15E5-D1A8-4E07-9FB9-B3D92999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E835-925C-4BC0-9AC7-3BDD860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D4AF-709E-455F-BA04-45DF3F7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693A-ED5C-4C25-90A2-023D776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4246-8ADB-4FCB-BDEC-F7177F9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F999-29D9-4BC8-927E-DCAE4DDE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2BA5-953C-47B5-B64E-1AA14434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68B0-47DD-48A4-9BDF-526EC747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3C48-C689-475D-9DFF-C9176C49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8DFF-2318-4FC4-93C8-92865246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3928-CD4A-4907-BEB4-F29688A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5BA5-4C48-47CE-BB4A-4492EFAB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0D63-CD7D-425E-B8FA-431227AB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D826-1E14-40FF-90FC-C1D8CA0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D9A3-3E24-41BD-B00C-6DA6490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60F9-DAF4-457F-A304-DCCEDBB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64EA-5C63-4021-9F8A-68DA4E94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886B-C0E4-4920-828E-3727D6D9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49BC-CDE6-4899-AD1F-6AB64AE9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B677-ECA0-42F1-8A0D-DFC5011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66EF-32B1-401E-B3EC-81E6F6C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83DA-C010-4808-B52C-A642DFD8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5ED0-70D4-40F5-814B-33F1294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006F-5972-4425-BA2C-3BEF3B6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7F02-0D36-4B72-9AAE-2960A05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4236-526B-4CB9-8E1B-D86423D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CAE9-C23F-4567-A5C6-53F0073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206D-EDF1-4FDC-B46B-F90B55B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0B36-B48C-421E-9921-D7007E69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9410-A0ED-47DB-89A9-A41E2371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621DA-F1C3-4A36-8640-9A187F0C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F0EA-8557-46D3-A838-88D89E6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3392-77C0-4908-984B-8BF4ACD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A61D7-FC82-4316-9772-4FB82DA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F272-FEC5-4BE4-AFFE-56C3ECC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5E3B-0A26-4DA1-903F-5FA9405F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64AB-E4C8-4D7A-973A-10E5B3A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9B4E9-F415-4FB2-9D6E-94EA19FE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A35F-08CC-4A75-948C-1B56583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B24E-64BD-452F-9706-2A85AF7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14D71-DA8C-4597-87CD-7334B604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405C-E5EF-49B1-A7CA-F83BC194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2AD00-7F41-43B9-8CA2-D39FEC0569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3A04B-7652-41B5-96F5-5EF8EAF40B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85FB2-B57A-4B5E-82BB-E5473656B2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A92C4-E634-4381-AFB6-729ED6C25F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5215F-8FFC-4569-BD0D-8AA06C2DC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96BBA-EF1A-45AB-A252-C92CD0402C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76F28-0787-4D31-A357-E6CE71F198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8644C-647B-40CD-A476-25CACE59F4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12135-197F-4A9A-8069-2D05EA6FED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0EE91-7791-4D38-92BB-9AD90A0A54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8D1E4-F19A-4620-A33B-C0574E680E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555FE-A397-49BB-B618-FB48B6117B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1829B-23B2-4FBA-856D-3D68C91A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3AD4A-CB0B-49C0-8076-7E72D0B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96F0A-3858-4ECE-A83F-D2936516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6E59-F2CA-4C5A-8378-3090238BA9F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9F7-0362-44E0-B5CE-9BD3E117A7C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2C9-C64D-4520-AD68-7BD21C4FC3D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9D79-7443-4F75-A124-8C5CD6DF082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9D0-C151-4F46-9911-95D10BB0722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A9EC-E799-4B1E-A16A-AE404351F72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6ED-A7C0-43C1-A391-B90B8B2C8E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1A0-CAC4-4BC7-B72F-08D0C39B658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905-F780-45C6-904D-2A9A3BDF5F5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D14A-ADC2-4D94-987B-C1A945B6EFD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4" descr=""/>
          <p:cNvPicPr/>
          <p:nvPr/>
        </p:nvPicPr>
        <p:blipFill>
          <a:blip r:embed="rId3"/>
          <a:stretch/>
        </p:blipFill>
        <p:spPr>
          <a:xfrm>
            <a:off x="-79200" y="-115920"/>
            <a:ext cx="682560" cy="5913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2FE1-548A-44C2-B0D2-ED7621F38E0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20080" y="3492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914400" y="730080"/>
            <a:ext cx="61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Understand the concept of surfac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ompute surfac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Understand the concept of surface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Perform surfac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• 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</a:rPr>
              <a:t>Create and add legen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2209680" y="4621320"/>
            <a:ext cx="541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analysis details shown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nge Detai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a for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atershed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334120" cy="38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3148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8" name="Picture 3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5928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Rectangle 4"/>
          <p:cNvSpPr/>
          <p:nvPr/>
        </p:nvSpPr>
        <p:spPr>
          <a:xfrm>
            <a:off x="838080" y="373392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atch patterns representing the watershe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257800" y="3657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tershed tag displaying the watershe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45720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RFACE LEGEN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838080" y="766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ating Legend Table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523880" y="51102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ble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1"/>
          <a:stretch/>
        </p:blipFill>
        <p:spPr>
          <a:xfrm>
            <a:off x="1900080" y="1297080"/>
            <a:ext cx="5262840" cy="38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ing Legend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838080" y="781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otate &gt; Labels &amp; Tables &gt; Add Tables drop-dow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urface Lege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DDSURFACELEGEND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2438280" y="5276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ble Properti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45720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RFAC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838080" y="7668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otate &gt;Labels &amp; Tables &gt; Add Labels drop-down &gt; Surface 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dd Surface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SURFACE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838080" y="1833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ing Contou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1828800" y="503388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os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our - Multiple at Interva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Labe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op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29596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ing Slope Lab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838080" y="781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also add slope labels to a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838080" y="1314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ing Spot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838080" y="17715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vil 3D allows you to add spot elevation labels and view the elevation of the surface at the sp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"/>
          <p:cNvSpPr/>
          <p:nvPr/>
        </p:nvSpPr>
        <p:spPr>
          <a:xfrm>
            <a:off x="45720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RFACE LABEL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1600200" y="49068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abel Style Composer - New Surface Contour Label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398920" cy="389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4572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838080" y="7621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1  Surfac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838080" y="11620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alculate the composite volume and create a TIN volume surface. Also, you will calculate the volume of an area bounded by a polyg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ure 4-15 shows the surface whose volume has been determ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905120" y="2124000"/>
            <a:ext cx="2819160" cy="3076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4724280" y="3343320"/>
            <a:ext cx="2619360" cy="981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2819520" y="52243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rface showing the determined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838080" y="392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ating the TIN Volume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438280" y="1001880"/>
            <a:ext cx="3295800" cy="34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9" name="Rectangle 3"/>
          <p:cNvSpPr/>
          <p:nvPr/>
        </p:nvSpPr>
        <p:spPr>
          <a:xfrm>
            <a:off x="1523880" y="44308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1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olume surface with elevation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ing the Bounde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61040" cy="31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Rectangle 3"/>
          <p:cNvSpPr/>
          <p:nvPr/>
        </p:nvSpPr>
        <p:spPr>
          <a:xfrm>
            <a:off x="1600200" y="42670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17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ing the Finished Ground from the dra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457200" y="343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RFACE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838080" y="804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omposit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838080" y="1185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ze &gt; Volumes and Materials &gt; Volumes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S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1795320" y="461484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ANORA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ndow with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olumes Dashboar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020000" cy="23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2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ev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838080" y="781200"/>
            <a:ext cx="7925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this tutorial, you wil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ut the elevation analysis using two different methods of ranging elevations and viewing elevation bands in the surface, refer to Figure 4-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830680" y="352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1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rface 1 elevation b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rcRect l="0" t="0" r="0" b="22741"/>
          <a:stretch/>
        </p:blipFill>
        <p:spPr>
          <a:xfrm>
            <a:off x="1001880" y="1814400"/>
            <a:ext cx="742464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110800" cy="6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8" name="Rectangle 2"/>
          <p:cNvSpPr/>
          <p:nvPr/>
        </p:nvSpPr>
        <p:spPr>
          <a:xfrm>
            <a:off x="2090880" y="2602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1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1 surface displaying elevatio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3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p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2057400" y="1924200"/>
            <a:ext cx="42670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1" name="Rectangle 3"/>
          <p:cNvSpPr/>
          <p:nvPr/>
        </p:nvSpPr>
        <p:spPr>
          <a:xfrm>
            <a:off x="838080" y="781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reate a style for the slope analysis and then run the slope analysis and slope arrows analysis on the surface, as shown in Figure 4-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1981080" y="39052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urface used for slope analysis and slope arrows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ing the Slope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rcRect l="0" t="12632" r="0" b="0"/>
          <a:stretch/>
        </p:blipFill>
        <p:spPr>
          <a:xfrm>
            <a:off x="996840" y="1085760"/>
            <a:ext cx="7766280" cy="19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5" name="Rectangle 3"/>
          <p:cNvSpPr/>
          <p:nvPr/>
        </p:nvSpPr>
        <p:spPr>
          <a:xfrm>
            <a:off x="1987560" y="3048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colors representing different slope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2276640" y="1077840"/>
            <a:ext cx="4505040" cy="28767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"/>
          <p:cNvSpPr/>
          <p:nvPr/>
        </p:nvSpPr>
        <p:spPr>
          <a:xfrm>
            <a:off x="3114720" y="3897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2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lope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83808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ing the Slope Leg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ing the Slope Arrow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39160" cy="35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1676520" y="46594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2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arrows display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ope Arrow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8380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torial 4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tershed and Water Dro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838080" y="781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perform the Watershed and Water Drop analyses. You will also extract objects from the surface shown in Figure 4-2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rcRect l="14953" t="6966" r="8592" b="1610"/>
          <a:stretch/>
        </p:blipFill>
        <p:spPr>
          <a:xfrm>
            <a:off x="2819520" y="1703520"/>
            <a:ext cx="3504960" cy="31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5" name="Rectangle 4"/>
          <p:cNvSpPr/>
          <p:nvPr/>
        </p:nvSpPr>
        <p:spPr>
          <a:xfrm>
            <a:off x="3048120" y="4862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2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rface with conto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ing the Watersheds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"/>
          <p:cNvPicPr/>
          <p:nvPr/>
        </p:nvPicPr>
        <p:blipFill>
          <a:blip r:embed="rId1"/>
          <a:stretch/>
        </p:blipFill>
        <p:spPr>
          <a:xfrm>
            <a:off x="2362320" y="936720"/>
            <a:ext cx="4876560" cy="37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Rectangle 3"/>
          <p:cNvSpPr/>
          <p:nvPr/>
        </p:nvSpPr>
        <p:spPr>
          <a:xfrm>
            <a:off x="2209680" y="4764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sheds displayed after perform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she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forming the Water-Drop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" descr=""/>
          <p:cNvPicPr/>
          <p:nvPr/>
        </p:nvPicPr>
        <p:blipFill>
          <a:blip r:embed="rId1"/>
          <a:stretch/>
        </p:blipFill>
        <p:spPr>
          <a:xfrm>
            <a:off x="1143000" y="949320"/>
            <a:ext cx="7543800" cy="40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Rectangle 3"/>
          <p:cNvSpPr/>
          <p:nvPr/>
        </p:nvSpPr>
        <p:spPr>
          <a:xfrm>
            <a:off x="1752480" y="5040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4-2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yline and markers displaying the path of water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838080" y="392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omposit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38080" y="7732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URFACE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1778040" y="4038480"/>
            <a:ext cx="58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ANORA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ndow with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posite Volu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38080" y="84924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ut, fill, and net volumes are calculated by using a pair of 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4989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Bounded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838080" y="48117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URFBOUNDED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020000" cy="23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45720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REATINGVOLUME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838080" y="7621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the TIN Volume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838080" y="1295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Surfaces drop-down &gt; Creat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838080" y="2352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Creating the Grid Volume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838080" y="273384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 &gt; Create Ground Data &gt; Surfaces drop-dow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57200" y="304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RFA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838080" y="766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&gt; Modify &gt; Surface Properties drop-down &gt; Surfac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SURFACE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362320" y="5272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options displayed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257800" cy="380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838080" y="380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ou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838080" y="7048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analyze and display surface contours by using different colors and linetyp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838080" y="18111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rec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838080" y="21160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specify the normal direction of the surface so that the site planners can review the way the site slopes in reference to the cardinal direction a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838080" y="3666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ev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838080" y="40482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divide elevation into bands of different colors representing  various elev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486400" y="685800"/>
            <a:ext cx="3470400" cy="3724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08" name="Rectangle 8"/>
          <p:cNvSpPr/>
          <p:nvPr/>
        </p:nvSpPr>
        <p:spPr>
          <a:xfrm>
            <a:off x="5486400" y="4495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vation bands represented by different col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"/>
          <p:cNvSpPr/>
          <p:nvPr/>
        </p:nvSpPr>
        <p:spPr>
          <a:xfrm>
            <a:off x="838080" y="3808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pe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04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analyze varying slopes in the su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838080" y="1762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pe Arrow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838080" y="21430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perform analysis on the basis of the directions of slopes of the triangles of the TIN su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838080" y="3514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-defined Contour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838080" y="389556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carry out the analysis for the user-defined contour lines of the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4724280" y="619200"/>
            <a:ext cx="4191120" cy="31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6" name="Rectangle 8"/>
          <p:cNvSpPr/>
          <p:nvPr/>
        </p:nvSpPr>
        <p:spPr>
          <a:xfrm>
            <a:off x="4572000" y="38862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lope arrows after runn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lope Arrow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0084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8" name="Rectangle 2"/>
          <p:cNvSpPr/>
          <p:nvPr/>
        </p:nvSpPr>
        <p:spPr>
          <a:xfrm>
            <a:off x="1752480" y="23288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nge Detai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a of the contour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1581120" y="2928960"/>
            <a:ext cx="598176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Rectangle 4"/>
          <p:cNvSpPr/>
          <p:nvPr/>
        </p:nvSpPr>
        <p:spPr>
          <a:xfrm>
            <a:off x="1523880" y="438624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4-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nge Detai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ea of the user-defined contour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838080" y="4017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tershed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80172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analyze the flow of water along and off the surface by determining the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regions or watersh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shed is an area that is drained by watercour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is the area of a land that catches rain, snow, and other forms of precipitatio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and  then drains it to another watercourse such as river, lake, and so 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838080" y="29354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nning the Watersh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838080" y="3468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un the watershed analysis, select the Watersheds option from the Analysis type drop-down list of the Surface Properties dialog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6:36:26Z</dcterms:created>
  <dc:creator>CADCIM2010</dc:creator>
  <dc:description/>
  <dc:language>en-US</dc:language>
  <cp:lastModifiedBy>Windows User</cp:lastModifiedBy>
  <dcterms:modified xsi:type="dcterms:W3CDTF">2015-09-22T10:02:30Z</dcterms:modified>
  <cp:revision>158</cp:revision>
  <dc:subject/>
  <dc:title>Slide 1</dc:title>
</cp:coreProperties>
</file>