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CF76-9287-481F-9F9B-A3E2EBC469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60FA-4A63-43B6-9B91-ABE4A65974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1184-ABBE-473F-8CE4-D6A9FDEDE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58BE-0A7F-4E8F-98ED-20FA7773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5AAF-9E91-4C1C-B865-04B4ABA4E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E7A5-B6C4-4B59-8009-87A8C9676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084C-0AED-428C-8E44-A309555A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A99E-094F-40CC-B02C-21967EB2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7D12-EF62-4270-A180-D2DF74AE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EA76-BA4A-40A0-998C-47F21CC3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EC93-6DA2-47FB-9192-F94B23C2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2C60-2F0C-41DC-9B1E-A87EC4FF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BF25-DA5D-4C33-8BD4-92C3D48A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92E0-13E6-4ACC-8C15-0D7E83D9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45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86240" y="6356520"/>
            <a:ext cx="2171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F83C-2DDA-4011-BE90-53FC5D4225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Rectangle 7" descr=""/>
          <p:cNvPicPr/>
          <p:nvPr/>
        </p:nvPicPr>
        <p:blipFill>
          <a:blip r:embed="rId3"/>
          <a:stretch/>
        </p:blipFill>
        <p:spPr>
          <a:xfrm>
            <a:off x="-79200" y="-79200"/>
            <a:ext cx="682560" cy="587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6"/>
          <p:cNvSpPr/>
          <p:nvPr/>
        </p:nvSpPr>
        <p:spPr>
          <a:xfrm>
            <a:off x="625680" y="355680"/>
            <a:ext cx="37270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Unit Learning 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876240" y="990720"/>
            <a:ext cx="75819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 the concept of profi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arn about the types of profi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eate a surface profi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eate a layout profi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eate multiple, stacked, and quick profi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eate profile label sty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eate band sets and band sty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 profile proper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2590920" y="4919760"/>
            <a:ext cx="487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6-10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Superimpose Profile Options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alog bo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905120" y="779400"/>
            <a:ext cx="5800680" cy="40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1676520" y="914400"/>
            <a:ext cx="5914800" cy="6094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2"/>
          <p:cNvSpPr/>
          <p:nvPr/>
        </p:nvSpPr>
        <p:spPr>
          <a:xfrm>
            <a:off x="2590920" y="1600200"/>
            <a:ext cx="36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6-11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profile view of L Stree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2514600" y="2286000"/>
            <a:ext cx="4276800" cy="1000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1600200" y="3809880"/>
            <a:ext cx="6076800" cy="6573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5"/>
          <p:cNvSpPr/>
          <p:nvPr/>
        </p:nvSpPr>
        <p:spPr>
          <a:xfrm>
            <a:off x="2590920" y="331956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6-12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The profile view of L Street (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1600200" y="4495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6-13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superimposed profile view of L Street (1) over L Stree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838080" y="3808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reating Multiple Profile Vie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838080" y="78120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ibbon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ome &gt; Profile &amp; Section Views &gt; Profile View drop-down 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reate Multiple Profile View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mmand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REATEMULTIPLEPROFILEVIE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914400" y="533412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1e1f"/>
                </a:solidFill>
                <a:latin typeface="ITC New Baskerville BT"/>
              </a:rPr>
              <a:t>Figure 6-14 </a:t>
            </a:r>
            <a:r>
              <a:rPr b="0" lang="en-US" sz="1600" spc="-1" strike="noStrike">
                <a:solidFill>
                  <a:srgbClr val="221e1f"/>
                </a:solidFill>
                <a:latin typeface="ITC New Baskerville BT"/>
              </a:rPr>
              <a:t>The </a:t>
            </a:r>
            <a:r>
              <a:rPr b="1" lang="en-US" sz="1600" spc="-1" strike="noStrike">
                <a:solidFill>
                  <a:srgbClr val="221e1f"/>
                </a:solidFill>
                <a:latin typeface="ITC New Baskerville BT"/>
              </a:rPr>
              <a:t>General </a:t>
            </a:r>
            <a:r>
              <a:rPr b="0" lang="en-US" sz="1600" spc="-1" strike="noStrike">
                <a:solidFill>
                  <a:srgbClr val="221e1f"/>
                </a:solidFill>
                <a:latin typeface="ITC New Baskerville BT"/>
              </a:rPr>
              <a:t>page of the </a:t>
            </a:r>
            <a:r>
              <a:rPr b="1" lang="en-US" sz="1600" spc="-1" strike="noStrike">
                <a:solidFill>
                  <a:srgbClr val="221e1f"/>
                </a:solidFill>
                <a:latin typeface="ITC New Baskerville BT"/>
              </a:rPr>
              <a:t>Create Multiple Profile Views </a:t>
            </a:r>
            <a:r>
              <a:rPr b="0" lang="en-US" sz="1600" spc="-1" strike="noStrike">
                <a:solidFill>
                  <a:srgbClr val="221e1f"/>
                </a:solidFill>
                <a:latin typeface="ITC New Baskerville BT"/>
              </a:rPr>
              <a:t>wiza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570564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2743200" y="390600"/>
            <a:ext cx="4478400" cy="47149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1523880" y="5105520"/>
            <a:ext cx="693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6-15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ultiple profile views created using the Create Multiple Profile too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2514600" y="530064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6-16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The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Create Quick Profiles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alog bo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838080" y="3808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reating a Quick Profil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838080" y="76212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ibbon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ome &gt; Create Design &gt; Profile View drop-down &gt; Quick Pro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mmand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REATEQUICKPRO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2057400" y="1447920"/>
            <a:ext cx="497196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57200" y="3762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  <a:ea typeface="Arial"/>
              </a:rPr>
              <a:t>DEFINING A PROFILE DESIGN CRITE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838080" y="7621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Arial"/>
              </a:rPr>
              <a:t>Ribbon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Arial"/>
              </a:rPr>
              <a:t>: Profile &gt; Modify Profile &gt; Design Criteria Edit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Arial"/>
              </a:rPr>
              <a:t>Command: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Arial"/>
              </a:rPr>
              <a:t> DESIGNCRITERIAEDI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676520" y="5029200"/>
            <a:ext cx="647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6-17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sign Criteria Editor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alog box showing the minimum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values at different speed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1"/>
          <a:stretch/>
        </p:blipFill>
        <p:spPr>
          <a:xfrm>
            <a:off x="2209680" y="1468440"/>
            <a:ext cx="518184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533520" y="3808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  <a:ea typeface="Arial"/>
              </a:rPr>
              <a:t>EDITINGLAYOUT/DESIGN PROFI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838080" y="9144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Using the Profile Layout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838080" y="137160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ibbon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rofile &gt; Modify Profile &gt; Geometry Editor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mmand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DITPROFILELAYO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2286000" y="4005360"/>
            <a:ext cx="548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6-18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rofile Entitie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tab of 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ANORAM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wind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702972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"/>
          <p:cNvSpPr/>
          <p:nvPr/>
        </p:nvSpPr>
        <p:spPr>
          <a:xfrm>
            <a:off x="838080" y="3808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diting Profiles Using Gri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838080" y="78120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One of the easiest methods of editing the geometry of a profile is by using the grips that are displayed on selecting a layout profi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You can edit both the profile PVIs and profile entities using the grips displayed on selecting the design profi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2057400" y="5300640"/>
            <a:ext cx="52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6-19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rofile Style - New Profile Style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alog bo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457200" y="3049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  <a:ea typeface="Arial"/>
              </a:rPr>
              <a:t>PROFILE AND PROFILE VIEWSTY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38080" y="6858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reating a Profile Sty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838080" y="107784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create a new profile style, choose the Settings tab of the Toolspace palett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48862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838080" y="3808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reating a Profile View Styl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905120" y="5014800"/>
            <a:ext cx="59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6-20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rofile View Style - New Profile View Style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alog bo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2286000" y="1295280"/>
            <a:ext cx="488628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533520" y="3762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PROFI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838080" y="40291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reating a Surface Profil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838080" y="441000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ibbon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ome &gt; Create Design &gt; Profile drop-down &gt; Create Surface Pro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mmand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REATEPROFILEFROMSU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3"/>
          <p:cNvGrpSpPr/>
          <p:nvPr/>
        </p:nvGrpSpPr>
        <p:grpSpPr>
          <a:xfrm>
            <a:off x="1981080" y="2209680"/>
            <a:ext cx="4676760" cy="1423080"/>
            <a:chOff x="1981080" y="2209680"/>
            <a:chExt cx="4676760" cy="1423080"/>
          </a:xfrm>
        </p:grpSpPr>
        <p:pic>
          <p:nvPicPr>
            <p:cNvPr id="55" name="Picture 2" descr=""/>
            <p:cNvPicPr/>
            <p:nvPr/>
          </p:nvPicPr>
          <p:blipFill>
            <a:blip r:embed="rId1"/>
            <a:stretch/>
          </p:blipFill>
          <p:spPr>
            <a:xfrm>
              <a:off x="1981080" y="2209680"/>
              <a:ext cx="467676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7"/>
            <p:cNvSpPr/>
            <p:nvPr/>
          </p:nvSpPr>
          <p:spPr>
            <a:xfrm>
              <a:off x="2209680" y="3295440"/>
              <a:ext cx="419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Figure 6-1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A profile created from the alignmen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966960" y="1270080"/>
            <a:ext cx="771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files are graphical representations of the surface elevations along the horizontal alignment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6629400" cy="13334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2"/>
          <p:cNvSpPr/>
          <p:nvPr/>
        </p:nvSpPr>
        <p:spPr>
          <a:xfrm>
            <a:off x="3276720" y="2362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6-21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ertical Clipp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2"/>
          <a:stretch/>
        </p:blipFill>
        <p:spPr>
          <a:xfrm>
            <a:off x="1523880" y="2743200"/>
            <a:ext cx="6905880" cy="12574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4"/>
          <p:cNvSpPr/>
          <p:nvPr/>
        </p:nvSpPr>
        <p:spPr>
          <a:xfrm>
            <a:off x="2743200" y="411480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6-2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rizontal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ertical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pp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838080" y="3808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Assigning the Profile View Styl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833480" y="4761000"/>
            <a:ext cx="624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6-23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lecting the profile view style from 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rofile view style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rop-down list in 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General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page of 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reate Profile View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izard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1341360" y="1143000"/>
            <a:ext cx="66596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523880" y="4673520"/>
            <a:ext cx="701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6-24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lecting 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New Profile View Style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rom 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bject style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rop-down list in 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rofile View Properties - PV - (1)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alog box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2514600" y="457200"/>
            <a:ext cx="45147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533520" y="3762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  <a:ea typeface="Arial"/>
              </a:rPr>
              <a:t>PROFILE LAB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514600" y="5054760"/>
            <a:ext cx="396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6-25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lecting 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omplete Label Set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rom 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rofile label set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rop-down lis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3000240" y="762120"/>
            <a:ext cx="294336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1635120" y="4965840"/>
            <a:ext cx="624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Figure 6-26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The Profile Labels - Surface contours- Surface (7) dialog box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334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"/>
          <p:cNvSpPr/>
          <p:nvPr/>
        </p:nvSpPr>
        <p:spPr>
          <a:xfrm>
            <a:off x="838080" y="3808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reating a New Profile Label Sty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1523880" y="5257800"/>
            <a:ext cx="693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6-27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Label Style Composer - New Profile Curve Label Style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alog bo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651528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1224000" y="4800600"/>
            <a:ext cx="692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6-28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lecting 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rest Curves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ption from 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yp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drop-down li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1600200" y="1066680"/>
            <a:ext cx="617220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838080" y="3808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Assigning Labels to a Profil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838080" y="9144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ibbon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nnotate &gt; Labels &amp; Tables &gt; Add Labels drop-down &gt; Add/Edit Profile Label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mmand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DITPROFILELABE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2806560" y="405756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6-29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elect Label Set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alog box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3200400" y="2057400"/>
            <a:ext cx="272412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838080" y="38088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reating a New Profile View Label Sty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838080" y="9144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dding Profile View Labe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838080" y="1295280"/>
            <a:ext cx="830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Ribbon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Annotate &gt; Labels &amp; Tables &gt; Add Labels drop-down &gt; Profile View &gt;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Add Profile View Label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Command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EDITPROFILELAB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971800" y="52578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6-30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dd Labels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alog box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7" descr=""/>
          <p:cNvPicPr/>
          <p:nvPr/>
        </p:nvPicPr>
        <p:blipFill>
          <a:blip r:embed="rId1"/>
          <a:stretch/>
        </p:blipFill>
        <p:spPr>
          <a:xfrm>
            <a:off x="3352680" y="2104920"/>
            <a:ext cx="238932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"/>
          <p:cNvSpPr/>
          <p:nvPr/>
        </p:nvSpPr>
        <p:spPr>
          <a:xfrm>
            <a:off x="457200" y="3049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  <a:ea typeface="Arial"/>
              </a:rPr>
              <a:t>BAND SETS AND BAND STY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523880" y="1033560"/>
            <a:ext cx="6019920" cy="213516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3"/>
          <p:cNvSpPr/>
          <p:nvPr/>
        </p:nvSpPr>
        <p:spPr>
          <a:xfrm>
            <a:off x="2057400" y="316692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6-31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file view with the band set at the bott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2514600" y="48769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6-2 The Create Profile from Surface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alog bo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1752480" y="628560"/>
            <a:ext cx="622944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762120" y="38088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reating a Band Style (Framing a Ban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057400" y="5072040"/>
            <a:ext cx="55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6-32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Band Details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ab with various areas and op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1905120" y="1066680"/>
            <a:ext cx="5638680" cy="39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2209680" y="4995720"/>
            <a:ext cx="53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6-33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Label Style Composer - Band Titl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dialog bo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6029280" cy="43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2044800" y="4191120"/>
            <a:ext cx="525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6-34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Text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omponent Editor - Contents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alog bo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459080" y="1219320"/>
            <a:ext cx="646560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533520" y="351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  <a:ea typeface="Arial"/>
              </a:rPr>
              <a:t>PROFILE PROPER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838080" y="8128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ibbon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rofile &gt; Modify Profile &gt; Profile Properties &gt; Profile Propert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mmand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DITPROFILEPROPER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1600200" y="5105520"/>
            <a:ext cx="640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Figure 6-35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Profile Properties - Surface contours- Surface (7)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dialog bo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6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221080" cy="35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"/>
          <p:cNvSpPr/>
          <p:nvPr/>
        </p:nvSpPr>
        <p:spPr>
          <a:xfrm>
            <a:off x="457200" y="3510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  <a:ea typeface="Arial"/>
              </a:rPr>
              <a:t>PROFILE VIEW PROPER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838080" y="8128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ibbon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rofile &gt; Modify View &gt; Profile View Properties &gt; Profile View Propert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mmand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DITGRAPHPROPER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752480" y="5224320"/>
            <a:ext cx="624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6-36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rofile View Properties - Andrews Drive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alog box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6" descr=""/>
          <p:cNvPicPr/>
          <p:nvPr/>
        </p:nvPicPr>
        <p:blipFill>
          <a:blip r:embed="rId1"/>
          <a:stretch/>
        </p:blipFill>
        <p:spPr>
          <a:xfrm>
            <a:off x="1432080" y="1523880"/>
            <a:ext cx="634032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"/>
          <p:cNvSpPr/>
          <p:nvPr/>
        </p:nvSpPr>
        <p:spPr>
          <a:xfrm>
            <a:off x="533520" y="304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  <a:ea typeface="Arial"/>
              </a:rPr>
              <a:t>Tutorial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838080" y="7668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Tutorial 1 Existing Ground Profi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838080" y="122400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this tutorial, you will create a ground profile by sampling a surface across the given alignment. You will also create an offset profile and a staggered/split profile view. The split profile view is shown in Figure 6-37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219320" y="2457360"/>
            <a:ext cx="7018200" cy="11239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3200400" y="35812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6-37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split profile view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"/>
          <p:cNvSpPr/>
          <p:nvPr/>
        </p:nvSpPr>
        <p:spPr>
          <a:xfrm>
            <a:off x="838080" y="3808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Tutorial 2 Layout Profi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838080" y="78120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is tutorial, you will create a layout profile for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oad A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ignment using th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file Layout Tool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olbar and the design criteria, as shown in Figure 6-38. Also, you will rectify the design erro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2125800" y="1771560"/>
            <a:ext cx="5037120" cy="274320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4"/>
          <p:cNvSpPr/>
          <p:nvPr/>
        </p:nvSpPr>
        <p:spPr>
          <a:xfrm>
            <a:off x="3505320" y="451476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6-38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Road A profil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"/>
          <p:cNvSpPr/>
          <p:nvPr/>
        </p:nvSpPr>
        <p:spPr>
          <a:xfrm>
            <a:off x="838080" y="3808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Tutorial 3 Superimposed Profi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838080" y="78120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is tutorial, you will create a superimposed profile and examine the elevation difference between two profiles. You will also create multiple views and stacked profile views, as shown in Figures 6-39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143000" y="1847880"/>
            <a:ext cx="7407360" cy="15238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4"/>
          <p:cNvSpPr/>
          <p:nvPr/>
        </p:nvSpPr>
        <p:spPr>
          <a:xfrm>
            <a:off x="2895480" y="3448080"/>
            <a:ext cx="33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6-39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multiple profile view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"/>
          <p:cNvSpPr/>
          <p:nvPr/>
        </p:nvSpPr>
        <p:spPr>
          <a:xfrm>
            <a:off x="838080" y="3808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Tutorial 4 Profile Sty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838080" y="7812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is tutorial, you will create a profile label style and a profile label set. You will then assign the profile label set to th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oad A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file, as shown in Figure 6-40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rcRect l="21456" t="0" r="0" b="57697"/>
          <a:stretch/>
        </p:blipFill>
        <p:spPr>
          <a:xfrm>
            <a:off x="2590920" y="1905120"/>
            <a:ext cx="4184640" cy="139212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4"/>
          <p:cNvSpPr/>
          <p:nvPr/>
        </p:nvSpPr>
        <p:spPr>
          <a:xfrm>
            <a:off x="2324160" y="3287880"/>
            <a:ext cx="53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6-40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Road A profile view with the data ban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838080" y="3808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Tutorial 5 Editing Profi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838080" y="7812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this tutorial, you will edit the layout profile shown in Figure 6-41, using different editing method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1905120" y="1695600"/>
            <a:ext cx="5902200" cy="20574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4"/>
          <p:cNvSpPr/>
          <p:nvPr/>
        </p:nvSpPr>
        <p:spPr>
          <a:xfrm>
            <a:off x="2819520" y="3905280"/>
            <a:ext cx="39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6-41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Stephen Road Layout pro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1676520" y="5105520"/>
            <a:ext cx="633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6-3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reate Profile View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izard with 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General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pag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662940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2114640" y="505476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6-4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Station Range page of the Create Profile View wizard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676520" y="939960"/>
            <a:ext cx="624816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1812960" y="5180040"/>
            <a:ext cx="633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6-5 The Profile View Height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ge of 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reate Profile View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iza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1393920" y="557280"/>
            <a:ext cx="7064280" cy="46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1646280" y="5000760"/>
            <a:ext cx="693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6-6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rofile Display Options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ge of 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reate Profile View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iza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1870200" y="976320"/>
            <a:ext cx="613080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838080" y="38088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reating a Layout or Criteria-Based Profil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38080" y="7812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ibbon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ome &gt; Create Design &gt; Profile drop-down &gt; Profile Creation Too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mmand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REATEPROFILELAYO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2362320" y="52768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6-7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reate Profile - Draw New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alog bo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3352680" y="1447920"/>
            <a:ext cx="25988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2743200" y="11095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6-8 The Profile Layout Tools - Layout (1)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olb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2971800" y="5300640"/>
            <a:ext cx="426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6-9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Vertical Curve Settings dialog bo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8" descr=""/>
          <p:cNvPicPr/>
          <p:nvPr/>
        </p:nvPicPr>
        <p:blipFill>
          <a:blip r:embed="rId1"/>
          <a:stretch/>
        </p:blipFill>
        <p:spPr>
          <a:xfrm>
            <a:off x="3224160" y="1905120"/>
            <a:ext cx="3710160" cy="3362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"/>
          <p:cNvPicPr/>
          <p:nvPr/>
        </p:nvPicPr>
        <p:blipFill>
          <a:blip r:embed="rId2"/>
          <a:stretch/>
        </p:blipFill>
        <p:spPr>
          <a:xfrm>
            <a:off x="2057400" y="380880"/>
            <a:ext cx="601992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06:36:26Z</dcterms:created>
  <dc:creator>CADCIM2010</dc:creator>
  <dc:description/>
  <dc:language>en-US</dc:language>
  <cp:lastModifiedBy>Windows User</cp:lastModifiedBy>
  <dcterms:modified xsi:type="dcterms:W3CDTF">2015-09-22T10:05:21Z</dcterms:modified>
  <cp:revision>170</cp:revision>
  <dc:subject/>
  <dc:title>Slide 1</dc:title>
</cp:coreProperties>
</file>